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1" i="1" lang="en-US" sz="4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2160" y="3830760"/>
            <a:ext cx="762624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1" i="1" lang="en-US" sz="4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2160" y="383076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9960" y="383076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1" i="1" lang="en-US" sz="4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840" y="167652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9520" y="167652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2160" y="383076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840" y="383076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9520" y="383076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1" i="1" lang="en-US" sz="4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1" i="1" lang="en-US" sz="4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1" i="1" lang="en-US" sz="4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1" i="1" lang="en-US" sz="43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2160" y="271440"/>
            <a:ext cx="7626240" cy="54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1" i="1" lang="en-US" sz="4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2160" y="383076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1" i="1" lang="en-US" sz="4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9960" y="383076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1" i="1" lang="en-US" sz="4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2160" y="3830760"/>
            <a:ext cx="762624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43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1" i="1" lang="en-US" sz="4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0120" indent="-330120">
              <a:spcBef>
                <a:spcPts val="774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1" marL="716040" indent="-271440">
              <a:spcBef>
                <a:spcPts val="774"/>
              </a:spcBef>
              <a:buClr>
                <a:srgbClr val="0000ff"/>
              </a:buClr>
              <a:buFont typeface="Book Antiqua"/>
              <a:buChar char="–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2" marL="1101600" indent="-218880">
              <a:spcBef>
                <a:spcPts val="774"/>
              </a:spcBef>
              <a:buClr>
                <a:srgbClr val="ff0000"/>
              </a:buClr>
              <a:buFont typeface="Book Antiqua"/>
              <a:buChar char="»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3" marL="1542960" indent="-218880">
              <a:spcBef>
                <a:spcPts val="774"/>
              </a:spcBef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4" marL="1984320" indent="-220680">
              <a:spcBef>
                <a:spcPts val="774"/>
              </a:spcBef>
              <a:buClr>
                <a:srgbClr val="0000ff"/>
              </a:buClr>
              <a:buFont typeface="Book Antiqua"/>
              <a:buChar char="–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5" marL="1984320" indent="-220680">
              <a:spcBef>
                <a:spcPts val="774"/>
              </a:spcBef>
              <a:buClr>
                <a:srgbClr val="000000"/>
              </a:buClr>
              <a:buFont typeface="Book Antiqua"/>
              <a:buChar char="–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6" marL="1984320" indent="-220680">
              <a:spcBef>
                <a:spcPts val="774"/>
              </a:spcBef>
              <a:buClr>
                <a:srgbClr val="000000"/>
              </a:buClr>
              <a:buFont typeface="Book Antiqua"/>
              <a:buChar char="–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"/>
          <p:cNvSpPr/>
          <p:nvPr/>
        </p:nvSpPr>
        <p:spPr>
          <a:xfrm>
            <a:off x="6365880" y="6316560"/>
            <a:ext cx="2554200" cy="4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32448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riunione di formazione -- Programma LEONA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europa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095120" cy="738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4300" spc="-1" strike="noStrike">
                <a:solidFill>
                  <a:srgbClr val="0000ff"/>
                </a:solidFill>
                <a:latin typeface="Times New Roman"/>
              </a:rPr>
              <a:t>LA RIUNIONE DI FORMAZIONE</a:t>
            </a:r>
            <a:endParaRPr b="1" i="1" lang="en-US" sz="43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4300" spc="-1" strike="noStrike">
                <a:solidFill>
                  <a:srgbClr val="0000ff"/>
                </a:solidFill>
                <a:latin typeface="Times New Roman"/>
              </a:rPr>
              <a:t>FINALITA’ DELLA COMUNICAZIONE</a:t>
            </a:r>
            <a:endParaRPr b="1" i="1" lang="en-US" sz="43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992160" y="2590920"/>
          <a:ext cx="7626240" cy="18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2590920"/>
                    <a:ext cx="7626240" cy="18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4300" spc="-1" strike="noStrike">
                <a:solidFill>
                  <a:srgbClr val="0000ff"/>
                </a:solidFill>
                <a:latin typeface="Times New Roman"/>
              </a:rPr>
              <a:t>CONTENUTI DELLA COMUNICAZIONE</a:t>
            </a:r>
            <a:endParaRPr b="1" i="1" lang="en-US" sz="43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992160" y="2486160"/>
          <a:ext cx="7626240" cy="25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2486160"/>
                    <a:ext cx="7626240" cy="25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4300" spc="-1" strike="noStrike">
                <a:solidFill>
                  <a:srgbClr val="0000ff"/>
                </a:solidFill>
                <a:latin typeface="Times New Roman"/>
              </a:rPr>
              <a:t>IL SUCCESSO DELLA COMUNICAZIONE</a:t>
            </a:r>
            <a:endParaRPr b="1" i="1" lang="en-US" sz="4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0120" indent="-330120">
              <a:spcBef>
                <a:spcPts val="774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Non conta ciò che invio - conta ciò che arriva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-330120">
              <a:spcBef>
                <a:spcPts val="774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So quello che ho inviato - in base a come l’altro reagisce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-330120">
              <a:spcBef>
                <a:spcPts val="774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Non è lui che non ha reagito bene - sono io che ho comunicato male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I FATTORI CHE INFLUENZANO LA COMUNICAZIONE</a:t>
            </a:r>
            <a:endParaRPr b="1" i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0120" indent="-330120">
              <a:spcBef>
                <a:spcPts val="774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Vincoli ambientali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-330120">
              <a:spcBef>
                <a:spcPts val="774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Motivazione del destinatario all’ascolto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-330120">
              <a:spcBef>
                <a:spcPts val="774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Natura dei contenuti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-330120">
              <a:spcBef>
                <a:spcPts val="774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Qualità della relazione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-330120">
              <a:spcBef>
                <a:spcPts val="774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Obiettivi del messaggio e tecniche di comunicazione coerenti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PER ASCOLTARE CON EFFICACIA</a:t>
            </a:r>
            <a:endParaRPr b="1" i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0120" indent="-330120">
              <a:spcBef>
                <a:spcPts val="774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Book Antiqua"/>
              </a:rPr>
              <a:t>Identificare l’idea centrale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-330120">
              <a:spcBef>
                <a:spcPts val="774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Book Antiqua"/>
              </a:rPr>
              <a:t>Concentrarsi sull’informazione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-330120">
              <a:spcBef>
                <a:spcPts val="774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Book Antiqua"/>
              </a:rPr>
              <a:t>Contenere le influenze emotive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-330120">
              <a:spcBef>
                <a:spcPts val="774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Book Antiqua"/>
              </a:rPr>
              <a:t>Stare attenti a tutti i segnali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-330120">
              <a:spcBef>
                <a:spcPts val="774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Book Antiqua"/>
              </a:rPr>
              <a:t>Non anticipare controdeduzioni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-330120">
              <a:spcBef>
                <a:spcPts val="774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Book Antiqua"/>
              </a:rPr>
              <a:t>Personalizzare l’argomento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-330120">
              <a:spcBef>
                <a:spcPts val="774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3100" spc="-1" strike="noStrike">
                <a:solidFill>
                  <a:srgbClr val="000000"/>
                </a:solidFill>
                <a:latin typeface="Book Antiqua"/>
              </a:rPr>
              <a:t>Non avere timore dei messaggi difficili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16040" y="271080"/>
            <a:ext cx="5484960" cy="7952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Perchè formare i lavoratori</a:t>
            </a:r>
            <a:endParaRPr b="1" i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0120" indent="-330120" algn="just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Obbligo di legge (coinvolgere i lavoratori affinchè  siano promotori convinti della propria e dell’altrui sicurezza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-330120" algn="just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Opportunità di miglioramento generale dei processi aziendali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-330120" algn="just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Passo fondamentale per garantire lo sviluppo del sistema prevenzione come parte integrante del processo aziendal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01480" y="271440"/>
            <a:ext cx="4875480" cy="719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Obiettivi del corso</a:t>
            </a:r>
            <a:endParaRPr b="1" i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2160" y="2438280"/>
            <a:ext cx="7313760" cy="3819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0120" indent="-330120" algn="just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Fornire ai capi formatori elementi di conoscenza teorica ed indicazioni pratiche sui comportamenti specifici in materia di sicurezza perchè possano svolgere con efficacia il compito di formatori dei lavoratori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00200" y="347400"/>
            <a:ext cx="6324480" cy="7189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it-IT" sz="2800" spc="-1" strike="noStrike">
                <a:solidFill>
                  <a:srgbClr val="0000ff"/>
                </a:solidFill>
                <a:latin typeface="Times New Roman"/>
              </a:rPr>
              <a:t>Perchè i Capi Formatori ?</a:t>
            </a:r>
            <a:endParaRPr b="1" i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31376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0120" indent="-33012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La prevenzione richiede la partecipazione proattiva di tutti gli attori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-33012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Un reale coinvolgimento può essere raggiunto solamente diffondendo in modo corretto e continuo una serie di conoscenze che diventino patrimonio comune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-33012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In una realtà complessa e dinamica si possono raggiungere gli obiettivi su indicati solo affidando il compito di divulgare tali conoscenze a coloro che normalmente gestiscono le attività lavorative (capi reparto, preposti, ecc.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5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Cosa trasmettere ai lavoratori</a:t>
            </a:r>
            <a:endParaRPr b="1" i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720" y="26665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0120" indent="-33012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La cultura della prevenzione: un luogo di lavoro sicuro dipende anche da m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-33012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ocedure di lavoro sicur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-33012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 rischi specifici della mansione svolta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-33012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 rischi generali dell’azienda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Dove fare la riunione</a:t>
            </a:r>
            <a:endParaRPr b="1" i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0120" indent="-330120" algn="just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La riunione di formazione sui rischi specifici non va fatta necessariamente in aula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 algn="just">
              <a:spcBef>
                <a:spcPts val="60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-330120" algn="just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Interrompere per un breve spazio di tempo il lavoro e trasmettere i contenuti senza allontanarsi dal reparto, ufficio, ecc. (concetto del Time Out)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24080" y="22824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Per essere efficaci</a:t>
            </a:r>
            <a:endParaRPr b="1" i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0120" indent="-33012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Tenere sempre presenti gli obiettivi che si vogliono raggiungere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-33012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Leggere e studiare la documentazione ricevuta fino a possederne i contenuti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-33012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Preparare una, due domande da rivolgere ai partecipanti per attivarne il coinvolgimento (es. cosa ne pensate di quanto ascoltato fin ora ?, ecc.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"/>
          <p:cNvSpPr/>
          <p:nvPr/>
        </p:nvSpPr>
        <p:spPr>
          <a:xfrm>
            <a:off x="747720" y="1281240"/>
            <a:ext cx="8166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’efficacia di una riunione dipende dalla cura che si pone nella prepar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20600" y="347760"/>
            <a:ext cx="4722840" cy="9475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Per essere convincenti</a:t>
            </a:r>
            <a:endParaRPr b="1" i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0120" indent="-33012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Autorevolezza e competenza, mostrandosi convinti di quello che si sta illustrando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-33012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Consapevolezza che si stanno affrontando temi di estrema gravità a cui spesso l’individuo reagisce con scarsa se non scarsissima attenzione; temi che suscitano il sorriso perchè suggeriscono cautele ritenute scontate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-33012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Anticipare l’atteggiamento di superficialità e scarsa importanza che l’uditorio dà a questi temi arricchendo l’esposizione, al momento opportuno, con casi avvenuti o possibili che obbligano a riflettere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"/>
          <p:cNvSpPr/>
          <p:nvPr/>
        </p:nvSpPr>
        <p:spPr>
          <a:xfrm>
            <a:off x="290520" y="1357200"/>
            <a:ext cx="8623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’efficacia di una riunione dipende dalla cura che si pone nella prepar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Per essere efficienti</a:t>
            </a:r>
            <a:endParaRPr b="1" i="1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0120" indent="-33012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Definire il luogo della riunione (centro di formazione, sala riunione in reparto, ecc.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-33012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Preparare la convocazione completa di agenda degli argomenti e accertarsi che la stessa sia stata ricevuta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-33012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Controllare che il luogo della riunione sia in ordine e disponga di posti sufficienti per tutti i partecipanti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-33012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Assicurarsi per tempo della disponibilità del materiale didattico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-33012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Procurarsi o farsi procurare eventuali sussidi audiovisivi, assicurarsi che funzionano e saperli utilizzare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-33012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Mantenere evidenza documentale di tutti gli incontri di formazione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" name=""/>
          <p:cNvSpPr/>
          <p:nvPr/>
        </p:nvSpPr>
        <p:spPr>
          <a:xfrm>
            <a:off x="214200" y="1281240"/>
            <a:ext cx="86997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’efficacia di una riunione dipende dalla cura che si pone nella prepar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31T10:38:48Z</dcterms:created>
  <dc:creator>Responsabile</dc:creator>
  <dc:description/>
  <dc:language>en-US</dc:language>
  <cp:lastModifiedBy>ELIS</cp:lastModifiedBy>
  <cp:lastPrinted>1995-12-02T08:32:18Z</cp:lastPrinted>
  <dcterms:modified xsi:type="dcterms:W3CDTF">1998-01-22T17:48:00Z</dcterms:modified>
  <cp:revision>20</cp:revision>
  <dc:subject/>
  <dc:title>Formazione su sicurezza e salute ai Capi Formatori</dc:title>
</cp:coreProperties>
</file>