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9.wmf" ContentType="image/x-wmf"/>
  <Override PartName="/ppt/media/image10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216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2160" y="271440"/>
            <a:ext cx="76262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1" marL="716040" indent="-271440">
              <a:spcBef>
                <a:spcPts val="774"/>
              </a:spcBef>
              <a:buClr>
                <a:srgbClr val="0000ff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1600" indent="-218880">
              <a:spcBef>
                <a:spcPts val="774"/>
              </a:spcBef>
              <a:buClr>
                <a:srgbClr val="ff0000"/>
              </a:buClr>
              <a:buFont typeface="Book Antiqua"/>
              <a:buChar char="»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218880">
              <a:spcBef>
                <a:spcPts val="774"/>
              </a:spcBef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4320" indent="-220680">
              <a:spcBef>
                <a:spcPts val="774"/>
              </a:spcBef>
              <a:buClr>
                <a:srgbClr val="0000ff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4320" indent="-220680">
              <a:spcBef>
                <a:spcPts val="774"/>
              </a:spcBef>
              <a:buClr>
                <a:srgbClr val="000000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4320" indent="-220680">
              <a:spcBef>
                <a:spcPts val="774"/>
              </a:spcBef>
              <a:buClr>
                <a:srgbClr val="000000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65880" y="6316560"/>
            <a:ext cx="25542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uropa" descr=""/>
          <p:cNvPicPr/>
          <p:nvPr/>
        </p:nvPicPr>
        <p:blipFill>
          <a:blip r:embed="rId2"/>
          <a:stretch/>
        </p:blipFill>
        <p:spPr>
          <a:xfrm>
            <a:off x="7467480" y="304920"/>
            <a:ext cx="1247760" cy="83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37920" y="6491160"/>
            <a:ext cx="63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prevenzione degli infortuni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La prevenzione degli infortuni</a:t>
            </a: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Quadro legislativo</a:t>
            </a: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89200" y="1820880"/>
            <a:ext cx="7687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DECRETO LEGISLATIVO n° 626 del 19/09/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4 comma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l datore di lavoro, il dirigente e il prepost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punto 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tengono unregistro nel quale sono annotati cronologicamente g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nfortuni sul lavoro che comportano un’assenza dal lavoro superi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 3 giorni compreso quello dell’evento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CAPO 8°,ART. 29 comm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l’INAIL e l’ISPESL si forniscono reciprocamente i dati relativi ag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nfortuni e malattie professionali anche con strumenti telematici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COMM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 criteri per la raccolta ed elaborazione della informazioni relative a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rischi e ai danni derivanti da infortunio durante l’attività lavo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sono individuati dalla norma UNI (7249 rev. 194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51520" y="2362320"/>
            <a:ext cx="821232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NCIDENTE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Qualsiasi evento improvviso ed imprevisto che altera 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normale andamento dell’attività lavorativa e determi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danni materiali ad impianti ed attrezza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NFORTUNIO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viene definito (nel DPR 1124) come u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Evento lesivo avvenuto per causa violenta, in occasione 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lavoro, da cui sia derivata una inabilità permanente assol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o parziale, ovvero una inabilità temporanea assolut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NEAR-MISS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(infortunio/incidente mancato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Qualsiasi evento che in circostanze avverse potreb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determinare un incidente e/o un infortunio</a:t>
            </a: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97160" y="4619520"/>
            <a:ext cx="4538520" cy="1327320"/>
            <a:chOff x="2297160" y="4619520"/>
            <a:chExt cx="4538520" cy="1327320"/>
          </a:xfrm>
        </p:grpSpPr>
        <p:sp>
          <p:nvSpPr>
            <p:cNvPr id="69" name=""/>
            <p:cNvSpPr/>
            <p:nvPr/>
          </p:nvSpPr>
          <p:spPr>
            <a:xfrm>
              <a:off x="6033960" y="4619520"/>
              <a:ext cx="801720" cy="1325520"/>
            </a:xfrm>
            <a:custGeom>
              <a:avLst/>
              <a:gdLst/>
              <a:ahLst/>
              <a:rect l="l" t="t" r="r" b="b"/>
              <a:pathLst>
                <a:path w="505" h="835">
                  <a:moveTo>
                    <a:pt x="238" y="834"/>
                  </a:moveTo>
                  <a:lnTo>
                    <a:pt x="0" y="355"/>
                  </a:lnTo>
                  <a:lnTo>
                    <a:pt x="223" y="0"/>
                  </a:lnTo>
                  <a:lnTo>
                    <a:pt x="504" y="415"/>
                  </a:lnTo>
                  <a:lnTo>
                    <a:pt x="238" y="83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60760" y="4619520"/>
              <a:ext cx="3728880" cy="567000"/>
            </a:xfrm>
            <a:custGeom>
              <a:avLst/>
              <a:gdLst/>
              <a:ahLst/>
              <a:rect l="l" t="t" r="r" b="b"/>
              <a:pathLst>
                <a:path w="2349" h="357">
                  <a:moveTo>
                    <a:pt x="0" y="356"/>
                  </a:moveTo>
                  <a:lnTo>
                    <a:pt x="2125" y="356"/>
                  </a:lnTo>
                  <a:lnTo>
                    <a:pt x="2348" y="0"/>
                  </a:lnTo>
                  <a:lnTo>
                    <a:pt x="300" y="0"/>
                  </a:lnTo>
                  <a:lnTo>
                    <a:pt x="0" y="35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297160" y="5183280"/>
              <a:ext cx="4118040" cy="763560"/>
            </a:xfrm>
            <a:custGeom>
              <a:avLst/>
              <a:gdLst/>
              <a:ahLst/>
              <a:rect l="l" t="t" r="r" b="b"/>
              <a:pathLst>
                <a:path w="2594" h="481">
                  <a:moveTo>
                    <a:pt x="228" y="0"/>
                  </a:moveTo>
                  <a:lnTo>
                    <a:pt x="2353" y="0"/>
                  </a:lnTo>
                  <a:lnTo>
                    <a:pt x="2593" y="480"/>
                  </a:lnTo>
                  <a:lnTo>
                    <a:pt x="0" y="480"/>
                  </a:lnTo>
                  <a:lnTo>
                    <a:pt x="228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2727360" y="3867120"/>
            <a:ext cx="3598920" cy="1200240"/>
            <a:chOff x="2727360" y="3867120"/>
            <a:chExt cx="3598920" cy="1200240"/>
          </a:xfrm>
        </p:grpSpPr>
        <p:sp>
          <p:nvSpPr>
            <p:cNvPr id="73" name=""/>
            <p:cNvSpPr/>
            <p:nvPr/>
          </p:nvSpPr>
          <p:spPr>
            <a:xfrm>
              <a:off x="5618160" y="3867120"/>
              <a:ext cx="708120" cy="1200240"/>
            </a:xfrm>
            <a:custGeom>
              <a:avLst/>
              <a:gdLst/>
              <a:ahLst/>
              <a:rect l="l" t="t" r="r" b="b"/>
              <a:pathLst>
                <a:path w="446" h="756">
                  <a:moveTo>
                    <a:pt x="227" y="755"/>
                  </a:moveTo>
                  <a:lnTo>
                    <a:pt x="0" y="265"/>
                  </a:lnTo>
                  <a:lnTo>
                    <a:pt x="166" y="0"/>
                  </a:lnTo>
                  <a:lnTo>
                    <a:pt x="445" y="417"/>
                  </a:lnTo>
                  <a:lnTo>
                    <a:pt x="227" y="75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083040" y="3867120"/>
              <a:ext cx="2801880" cy="423720"/>
            </a:xfrm>
            <a:custGeom>
              <a:avLst/>
              <a:gdLst/>
              <a:ahLst/>
              <a:rect l="l" t="t" r="r" b="b"/>
              <a:pathLst>
                <a:path w="1765" h="267">
                  <a:moveTo>
                    <a:pt x="0" y="266"/>
                  </a:moveTo>
                  <a:lnTo>
                    <a:pt x="1598" y="266"/>
                  </a:lnTo>
                  <a:lnTo>
                    <a:pt x="1764" y="0"/>
                  </a:lnTo>
                  <a:lnTo>
                    <a:pt x="316" y="1"/>
                  </a:lnTo>
                  <a:lnTo>
                    <a:pt x="0" y="26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27360" y="4287960"/>
              <a:ext cx="3252600" cy="779400"/>
            </a:xfrm>
            <a:custGeom>
              <a:avLst/>
              <a:gdLst/>
              <a:ahLst/>
              <a:rect l="l" t="t" r="r" b="b"/>
              <a:pathLst>
                <a:path w="2049" h="491">
                  <a:moveTo>
                    <a:pt x="0" y="490"/>
                  </a:moveTo>
                  <a:lnTo>
                    <a:pt x="2048" y="490"/>
                  </a:lnTo>
                  <a:lnTo>
                    <a:pt x="1821" y="0"/>
                  </a:lnTo>
                  <a:lnTo>
                    <a:pt x="225" y="0"/>
                  </a:lnTo>
                  <a:lnTo>
                    <a:pt x="0" y="49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143160" y="3125880"/>
            <a:ext cx="2673360" cy="1041480"/>
            <a:chOff x="3143160" y="3125880"/>
            <a:chExt cx="2673360" cy="1041480"/>
          </a:xfrm>
        </p:grpSpPr>
        <p:sp>
          <p:nvSpPr>
            <p:cNvPr id="77" name=""/>
            <p:cNvSpPr/>
            <p:nvPr/>
          </p:nvSpPr>
          <p:spPr>
            <a:xfrm>
              <a:off x="5197320" y="3125880"/>
              <a:ext cx="619200" cy="1039680"/>
            </a:xfrm>
            <a:custGeom>
              <a:avLst/>
              <a:gdLst/>
              <a:ahLst/>
              <a:rect l="l" t="t" r="r" b="b"/>
              <a:pathLst>
                <a:path w="390" h="655">
                  <a:moveTo>
                    <a:pt x="0" y="178"/>
                  </a:moveTo>
                  <a:lnTo>
                    <a:pt x="231" y="654"/>
                  </a:lnTo>
                  <a:lnTo>
                    <a:pt x="389" y="410"/>
                  </a:lnTo>
                  <a:lnTo>
                    <a:pt x="112" y="0"/>
                  </a:lnTo>
                  <a:lnTo>
                    <a:pt x="0" y="1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03520" y="3125880"/>
              <a:ext cx="1871640" cy="282600"/>
            </a:xfrm>
            <a:custGeom>
              <a:avLst/>
              <a:gdLst/>
              <a:ahLst/>
              <a:rect l="l" t="t" r="r" b="b"/>
              <a:pathLst>
                <a:path w="1179" h="178">
                  <a:moveTo>
                    <a:pt x="0" y="177"/>
                  </a:moveTo>
                  <a:lnTo>
                    <a:pt x="1066" y="177"/>
                  </a:lnTo>
                  <a:lnTo>
                    <a:pt x="1178" y="0"/>
                  </a:lnTo>
                  <a:lnTo>
                    <a:pt x="298" y="0"/>
                  </a:lnTo>
                  <a:lnTo>
                    <a:pt x="0" y="17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43160" y="3406680"/>
              <a:ext cx="2421000" cy="760680"/>
            </a:xfrm>
            <a:custGeom>
              <a:avLst/>
              <a:gdLst/>
              <a:ahLst/>
              <a:rect l="l" t="t" r="r" b="b"/>
              <a:pathLst>
                <a:path w="1525" h="479">
                  <a:moveTo>
                    <a:pt x="0" y="478"/>
                  </a:moveTo>
                  <a:lnTo>
                    <a:pt x="1524" y="478"/>
                  </a:lnTo>
                  <a:lnTo>
                    <a:pt x="1293" y="0"/>
                  </a:lnTo>
                  <a:lnTo>
                    <a:pt x="227" y="0"/>
                  </a:lnTo>
                  <a:lnTo>
                    <a:pt x="0" y="47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565440" y="2368440"/>
            <a:ext cx="1743120" cy="911160"/>
            <a:chOff x="3565440" y="2368440"/>
            <a:chExt cx="1743120" cy="911160"/>
          </a:xfrm>
        </p:grpSpPr>
        <p:sp>
          <p:nvSpPr>
            <p:cNvPr id="81" name=""/>
            <p:cNvSpPr/>
            <p:nvPr/>
          </p:nvSpPr>
          <p:spPr>
            <a:xfrm>
              <a:off x="4775040" y="2371680"/>
              <a:ext cx="533520" cy="907920"/>
            </a:xfrm>
            <a:custGeom>
              <a:avLst/>
              <a:gdLst/>
              <a:ahLst/>
              <a:rect l="l" t="t" r="r" b="b"/>
              <a:pathLst>
                <a:path w="336" h="572">
                  <a:moveTo>
                    <a:pt x="229" y="571"/>
                  </a:moveTo>
                  <a:lnTo>
                    <a:pt x="335" y="408"/>
                  </a:lnTo>
                  <a:lnTo>
                    <a:pt x="58" y="0"/>
                  </a:lnTo>
                  <a:lnTo>
                    <a:pt x="0" y="86"/>
                  </a:lnTo>
                  <a:lnTo>
                    <a:pt x="229" y="571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933720" y="2368440"/>
              <a:ext cx="933480" cy="139680"/>
            </a:xfrm>
            <a:custGeom>
              <a:avLst/>
              <a:gdLst/>
              <a:ahLst/>
              <a:rect l="l" t="t" r="r" b="b"/>
              <a:pathLst>
                <a:path w="588" h="88">
                  <a:moveTo>
                    <a:pt x="0" y="87"/>
                  </a:moveTo>
                  <a:lnTo>
                    <a:pt x="529" y="87"/>
                  </a:lnTo>
                  <a:lnTo>
                    <a:pt x="587" y="0"/>
                  </a:lnTo>
                  <a:lnTo>
                    <a:pt x="183" y="0"/>
                  </a:lnTo>
                  <a:lnTo>
                    <a:pt x="0" y="8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65440" y="2506680"/>
              <a:ext cx="1575000" cy="772920"/>
            </a:xfrm>
            <a:custGeom>
              <a:avLst/>
              <a:gdLst/>
              <a:ahLst/>
              <a:rect l="l" t="t" r="r" b="b"/>
              <a:pathLst>
                <a:path w="992" h="487">
                  <a:moveTo>
                    <a:pt x="0" y="486"/>
                  </a:moveTo>
                  <a:lnTo>
                    <a:pt x="991" y="486"/>
                  </a:lnTo>
                  <a:lnTo>
                    <a:pt x="761" y="0"/>
                  </a:lnTo>
                  <a:lnTo>
                    <a:pt x="231" y="0"/>
                  </a:lnTo>
                  <a:lnTo>
                    <a:pt x="0" y="48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3986280" y="1619280"/>
            <a:ext cx="814320" cy="770040"/>
            <a:chOff x="3986280" y="1619280"/>
            <a:chExt cx="814320" cy="770040"/>
          </a:xfrm>
        </p:grpSpPr>
        <p:sp>
          <p:nvSpPr>
            <p:cNvPr id="85" name=""/>
            <p:cNvSpPr/>
            <p:nvPr/>
          </p:nvSpPr>
          <p:spPr>
            <a:xfrm>
              <a:off x="4351320" y="1619280"/>
              <a:ext cx="449280" cy="770040"/>
            </a:xfrm>
            <a:custGeom>
              <a:avLst/>
              <a:gdLst/>
              <a:ahLst/>
              <a:rect l="l" t="t" r="r" b="b"/>
              <a:pathLst>
                <a:path w="283" h="485">
                  <a:moveTo>
                    <a:pt x="229" y="484"/>
                  </a:moveTo>
                  <a:lnTo>
                    <a:pt x="282" y="409"/>
                  </a:lnTo>
                  <a:lnTo>
                    <a:pt x="0" y="0"/>
                  </a:lnTo>
                  <a:lnTo>
                    <a:pt x="229" y="4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86280" y="1619280"/>
              <a:ext cx="730080" cy="770040"/>
            </a:xfrm>
            <a:custGeom>
              <a:avLst/>
              <a:gdLst/>
              <a:ahLst/>
              <a:rect l="l" t="t" r="r" b="b"/>
              <a:pathLst>
                <a:path w="460" h="485">
                  <a:moveTo>
                    <a:pt x="0" y="484"/>
                  </a:moveTo>
                  <a:lnTo>
                    <a:pt x="459" y="484"/>
                  </a:lnTo>
                  <a:lnTo>
                    <a:pt x="230" y="0"/>
                  </a:lnTo>
                  <a:lnTo>
                    <a:pt x="0" y="48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4244400" y="195912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83480" y="2720880"/>
            <a:ext cx="443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9240" y="3635280"/>
            <a:ext cx="574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914640" y="4549680"/>
            <a:ext cx="70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25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01480" y="5388120"/>
            <a:ext cx="280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93400" y="1730520"/>
            <a:ext cx="1021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r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62360" y="2568600"/>
            <a:ext cx="244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nabilità perman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9440" y="3254400"/>
            <a:ext cx="2206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Inab. temporanea &gt; 3 g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4168800"/>
            <a:ext cx="66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ie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730040" y="1682640"/>
            <a:ext cx="1739880" cy="368280"/>
          </a:xfrm>
          <a:prstGeom prst="rightArrow">
            <a:avLst>
              <a:gd name="adj1" fmla="val 50000"/>
              <a:gd name="adj2" fmla="val 236239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187960" y="2521080"/>
            <a:ext cx="1130400" cy="368280"/>
          </a:xfrm>
          <a:prstGeom prst="rightArrow">
            <a:avLst>
              <a:gd name="adj1" fmla="val 50000"/>
              <a:gd name="adj2" fmla="val 153484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721480" y="3206880"/>
            <a:ext cx="977760" cy="444240"/>
          </a:xfrm>
          <a:prstGeom prst="rightArrow">
            <a:avLst>
              <a:gd name="adj1" fmla="val 50000"/>
              <a:gd name="adj2" fmla="val 110059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9440" y="4854600"/>
            <a:ext cx="2130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ncidenti senza danno a pers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0800" y="6095880"/>
            <a:ext cx="417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Elaborazione da dati INAIL e di lett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00560" y="1773360"/>
            <a:ext cx="7329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INDICE DI FREQUENZA= 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nel periodo considerato, rappresenta il numero total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infortuni per 1.000.000 di ore lav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IF = N° INFORTUNI &gt; 3 gg. X 1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N° ore lav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INDICE DI GRAVITA’= I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nel periodo considerato, rappresenta il numero totale 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assenza per 1000 ore lavo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IG = N° giornate perse X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          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N° ore lavorate</a:t>
            </a: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048120"/>
            <a:ext cx="259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8769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75040" y="380880"/>
            <a:ext cx="51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Book Antiqua"/>
              </a:rPr>
              <a:t>STATISTICHE INFORTU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330120" indent="0" algn="ctr">
              <a:spcBef>
                <a:spcPts val="774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La gravità dell’infortunio dipende dalla “gravità” della causa 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75280" y="1838160"/>
            <a:ext cx="368280" cy="23040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84920" y="1790640"/>
            <a:ext cx="520560" cy="325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13320" y="1693800"/>
            <a:ext cx="825480" cy="5209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65400" y="1596960"/>
            <a:ext cx="1130400" cy="76212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165400" y="5043600"/>
            <a:ext cx="4025880" cy="763560"/>
            <a:chOff x="2165400" y="5043600"/>
            <a:chExt cx="4025880" cy="763560"/>
          </a:xfrm>
        </p:grpSpPr>
        <p:sp>
          <p:nvSpPr>
            <p:cNvPr id="113" name=""/>
            <p:cNvSpPr/>
            <p:nvPr/>
          </p:nvSpPr>
          <p:spPr>
            <a:xfrm>
              <a:off x="2165400" y="5286240"/>
              <a:ext cx="368280" cy="2304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03480" y="5237280"/>
              <a:ext cx="520920" cy="326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17880" y="5140440"/>
              <a:ext cx="825480" cy="520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60880" y="5043600"/>
              <a:ext cx="1130400" cy="763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 flipH="1">
            <a:off x="5810400" y="2128680"/>
            <a:ext cx="317520" cy="28530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514400" y="2128680"/>
            <a:ext cx="1613160" cy="29498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524400" y="2178000"/>
            <a:ext cx="2603520" cy="30463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610000" y="2128680"/>
            <a:ext cx="3517920" cy="3095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89480" y="2128680"/>
            <a:ext cx="368280" cy="2803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22800" y="2274840"/>
            <a:ext cx="1282680" cy="2657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79800" y="2324160"/>
            <a:ext cx="2273400" cy="2608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362120" y="2128680"/>
            <a:ext cx="927000" cy="29019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6320" y="2274840"/>
            <a:ext cx="0" cy="27068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79800" y="2324160"/>
            <a:ext cx="977760" cy="2706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71400" y="2128680"/>
            <a:ext cx="1917720" cy="299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219120" y="2274840"/>
            <a:ext cx="1003320" cy="2852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79800" y="2324160"/>
            <a:ext cx="63360" cy="28033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2457000" y="2128680"/>
            <a:ext cx="2832120" cy="3046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381040" y="2274840"/>
            <a:ext cx="1765080" cy="2852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228760" y="2371680"/>
            <a:ext cx="851040" cy="2755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14720" y="1314360"/>
            <a:ext cx="1871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57840" y="5911920"/>
            <a:ext cx="2011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CONSEGU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330120" indent="0" algn="ctr">
              <a:spcBef>
                <a:spcPts val="774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L’incidente non è ma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 algn="ctr">
              <a:spcBef>
                <a:spcPts val="774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dovuto al caso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 algn="ctr">
              <a:spcBef>
                <a:spcPts val="774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 algn="ctr">
              <a:spcBef>
                <a:spcPts val="774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Eliminare le cause per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 algn="ctr">
              <a:spcBef>
                <a:spcPts val="774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Times New Roman"/>
              </a:rPr>
              <a:t>eliminare l’incident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609120" y="2819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330120" indent="0" algn="just">
              <a:spcBef>
                <a:spcPts val="60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n evento avvenuto per causa violenta in occasione di lavoro, da cui sia derivata la morte o un’inabilità permanente al lavoro, assoluta o parziale, ovvero un’inabilità temporanea assoluta che comporti l’astensione dal lavoro” [Art.2 DPR 1124/6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74320" y="1692360"/>
            <a:ext cx="55368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osa è un infortunio sul lavor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ortuni dovuti a cause sogget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fortuni in cui il comportamento del singolo è risultato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ffor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a quello consolidato della grandissima maggioranza dei lavoratori del gruppo di apparten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ortuni dovuti a cause ogget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infortuni in cui il comportamento è risultato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or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quello consolidato della grandissima maggioranza dei lavoratori del gruppo di apparten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660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2160" y="1980720"/>
            <a:ext cx="7626240" cy="412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carsa padronanza della macch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ssuefazione ai rischi (abitudine dei ges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nalizzazione dei comportamenti di fronte al perico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ttostima dei rischi (neutralizzazione delle protezio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minuzione dell’attenzione nel lavoro di sorveglianza (stanchezz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ncato rispetto delle 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umento dello stress (rumore, ritmo, ecc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ecarietà del lavoro che conduce ad una formazione insuf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nutenzione poco o male eseguita (rischi insospetta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35640" y="1174680"/>
            <a:ext cx="231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attori / con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597120" y="1425600"/>
            <a:ext cx="2316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nfortuni in Italia (*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280" y="2263680"/>
            <a:ext cx="80758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umero Totale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795.562            925.88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ortali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1.447                1.1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 infortunio ogni 15 lavor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 infortunio mortale ogni 8.100 lavorato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35760" y="1577880"/>
            <a:ext cx="22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1987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19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70520" y="3178080"/>
            <a:ext cx="131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Ogni an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920" y="5891040"/>
            <a:ext cx="748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(*)  superiore a 3 giorni - gestione INAIL industria - lavoratori assicurati circa 12.000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2160" y="2362320"/>
            <a:ext cx="7626240" cy="266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2000"/>
          </a:bodyPr>
          <a:p>
            <a:pPr marL="270360" indent="-27036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ositivi di protezione inada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360" indent="-27036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stemi di comando e controllo sofistic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360" indent="-27036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chi propri della macchina (movimenti alternati, avviamento imprevisto, arresto preca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360" indent="-27036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chine non adatte allo scopo o all’ambiente (allarme sonoro mascherato dal rumore del parco macch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360" indent="-27036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olazione di persone (linee automatich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360" indent="-27036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aggio di macchine di provenienze e tecnologie diffe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360" indent="-27036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usso di materiale o di prodotti tra le mac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6680" y="1555920"/>
            <a:ext cx="2350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attori / Conca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8480" y="2362320"/>
            <a:ext cx="7626240" cy="3504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nno più o meno grave all’integrità fisica del lavorat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rresto della produzione della macchina interess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mobilizzazione del parco macchine similari per perizie (es. ispezione ispettorato del lavo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necessario, messa in conformità delle mac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stituzione di personale e formazione sul post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schi soc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gradazione dell’immagine dell’azi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46160" y="1281240"/>
            <a:ext cx="2484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e consegu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63680" y="4654440"/>
            <a:ext cx="1968480" cy="90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3680" y="2444760"/>
            <a:ext cx="2044440" cy="9018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4960" y="2209320"/>
            <a:ext cx="3198960" cy="412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i dir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i indir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33520" y="2133720"/>
            <a:ext cx="373716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imo soccorso, pratiche amministrative, retribuzione delle giornate in franchi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umenti dei premi IN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sfunzioni organizzative (sostituzioni,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dita di produzione, ossia perdita di c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ventuali san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9680" y="2444760"/>
            <a:ext cx="1968480" cy="825480"/>
          </a:xfrm>
          <a:prstGeom prst="rightArrow">
            <a:avLst>
              <a:gd name="adj1" fmla="val 50000"/>
              <a:gd name="adj2" fmla="val 119243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9680" y="4730760"/>
            <a:ext cx="1968480" cy="825480"/>
          </a:xfrm>
          <a:prstGeom prst="rightArrow">
            <a:avLst>
              <a:gd name="adj1" fmla="val 50000"/>
              <a:gd name="adj2" fmla="val 119243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7600" y="1204920"/>
            <a:ext cx="1030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c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2160" y="19051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zione ed addestramento per ottenere comprensione  (dei problemi) e condivisione (sulle modalità di tutel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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guire ordini, divieti ed indicazio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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tto uso dei dispositivi di protezione individu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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ine e puli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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gido rispetto delle procedure nei casi in cui la sicurezza tecnica non ba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riduzione degli incidenti sul lavoro si impone a tutti, per ragioni etiche (rispetto della risorsa umana), economiche (costi degli incidenti sul lavoro), giuridiche (rispetto della legislazion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21880" y="1128600"/>
            <a:ext cx="378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e misure di 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53640" y="1352160"/>
            <a:ext cx="7626600" cy="412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5000"/>
          </a:bodyPr>
          <a:p>
            <a:pPr marL="31356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356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356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356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356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tenere sgombre le aree esterne a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ne di agevolare le eve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56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zioni di evacu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56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56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56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356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356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porre nei posti previsti tutto ciò che può cre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356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tacoli alla circ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143000"/>
            <a:ext cx="849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Gli incidenti nell’ambiente di lavoro possono essere evitati seguendo elementari norme di prud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2629080" cy="176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 lasciare pozze d’acqua o liquidi sul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viment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 asciugare con una spu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tenere sgombre le vie di circolazion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 vie di fuga e le uscite di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1166760"/>
            <a:ext cx="849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Gli incidenti nell’ambiente di lavoro possono essere evitati seguendo elementari norme di prud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2251080" cy="1904760"/>
          </a:xfrm>
          <a:prstGeom prst="rect">
            <a:avLst/>
          </a:prstGeom>
          <a:ln w="0">
            <a:noFill/>
          </a:ln>
        </p:spPr>
      </p:pic>
      <p:pic>
        <p:nvPicPr>
          <p:cNvPr id="170" name="Info089%20copia" descr=""/>
          <p:cNvPicPr/>
          <p:nvPr/>
        </p:nvPicPr>
        <p:blipFill>
          <a:blip r:embed="rId2"/>
          <a:stretch/>
        </p:blipFill>
        <p:spPr>
          <a:xfrm>
            <a:off x="6407280" y="3886200"/>
            <a:ext cx="17269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Mantenere pulite vetrate (sostituendo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eventuali vetri incrinati o rotti), pavimenti, ec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60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Utilizzare sempre i dispositivi di protezion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individuale quando prev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Riporre gli attrezzi di lavoro negli appositi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cassetti evitando di lasciarli dispersi su tavoli e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banchi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1166760"/>
            <a:ext cx="849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Gli incidenti nell’ambiente di lavoro possono essere evitati seguendo elementari norme di prud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chiedere immediatamente  l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ostituzione 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teriale mancante o danneggi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iegare correttamente i mezzi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380520" y="304560"/>
            <a:ext cx="7626600" cy="117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0000" y="1166760"/>
            <a:ext cx="849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Gli incidenti nell’ambiente di lavoro possono essere evitati seguendo elementari norme di prud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1841400" cy="18619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1952640" cy="21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IINT4GIF" descr=""/>
          <p:cNvPicPr/>
          <p:nvPr/>
        </p:nvPicPr>
        <p:blipFill>
          <a:blip r:embed="rId1"/>
          <a:stretch/>
        </p:blipFill>
        <p:spPr>
          <a:xfrm>
            <a:off x="1828800" y="2743200"/>
            <a:ext cx="6019920" cy="880920"/>
          </a:xfrm>
          <a:prstGeom prst="rect">
            <a:avLst/>
          </a:prstGeom>
          <a:ln w="0">
            <a:noFill/>
          </a:ln>
        </p:spPr>
      </p:pic>
      <p:pic>
        <p:nvPicPr>
          <p:cNvPr id="180" name="CASCO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1625400" cy="127008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626600" cy="117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tilizzare sempre i dispositivi di protezione individuale quando prev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601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tilizzare scale a mano sufficientement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nghe per non rendere difficolto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’ultimo tratto di salita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icurandole al piano di arr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lla esecuzione di lavori aerei evitare la cadu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  attrezzi  e  materiali  ed  indossare  sempr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positivi  di  protezione individuale  prescri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660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00000" y="1166760"/>
            <a:ext cx="849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Gli incidenti nell’ambiente di lavoro possono essere evitati seguendo elementari norme di prud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925560" cy="2438280"/>
          </a:xfrm>
          <a:prstGeom prst="rect">
            <a:avLst/>
          </a:prstGeom>
          <a:ln w="0">
            <a:noFill/>
          </a:ln>
        </p:spPr>
      </p:pic>
      <p:pic>
        <p:nvPicPr>
          <p:cNvPr id="187" name="DANGER3" descr=""/>
          <p:cNvPicPr/>
          <p:nvPr/>
        </p:nvPicPr>
        <p:blipFill>
          <a:blip r:embed="rId2"/>
          <a:stretch/>
        </p:blipFill>
        <p:spPr>
          <a:xfrm>
            <a:off x="6789600" y="4038480"/>
            <a:ext cx="1602000" cy="16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626600" cy="117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Quadro legislativo di riferiment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0400" y="1973160"/>
            <a:ext cx="7292880" cy="32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 Antiqua"/>
              </a:rPr>
              <a:t>QUADRO LEGISLATIVO DI RIFER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DPR n° 547 del 27/04/55, Art.403 e 4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DM 12/09/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DPR n° 1124 del 30/06/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DM 10/08/84  (Sistemi di registrazione alternati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D.L.vo n° 626 del 19/09/94; Capo 1 Art. 4 punto o) e Capo ( Art.2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7626240" cy="117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nterventi vietati al personale non addestrat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97080" y="1314000"/>
            <a:ext cx="7626240" cy="412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85000"/>
          </a:bodyPr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tilizzo di carrelli elev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nutenzione quadri elettr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nutenzione reti aria compre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terventi su gruppo elettro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terventi calda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tilizzo di DPI speciali (autorespiratori, imbracature,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nutenzione impianti elettr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vori su parti in t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terventi con esclusione dei dispositivi di sicurez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nutenzione di impianti e mac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tilizzo di gas compres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tilizzo di gas toss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0440" indent="-2804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terventi antincendio e di emerg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Possono operare solo le persone 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esplicitamente incaricate o patentate: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63600" y="2382840"/>
          <a:ext cx="19987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2382840"/>
                    <a:ext cx="19987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231480" y="5486400"/>
            <a:ext cx="2120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Macchine radioge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16000" y="3986280"/>
            <a:ext cx="15897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: 26/27/28-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: 1/2-7-28-29-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11840" y="2982960"/>
            <a:ext cx="322200" cy="584280"/>
          </a:xfrm>
          <a:custGeom>
            <a:avLst/>
            <a:gdLst/>
            <a:ahLst/>
            <a:rect l="l" t="t" r="r" b="b"/>
            <a:pathLst>
              <a:path w="203" h="368">
                <a:moveTo>
                  <a:pt x="202" y="0"/>
                </a:moveTo>
                <a:lnTo>
                  <a:pt x="202" y="147"/>
                </a:lnTo>
                <a:lnTo>
                  <a:pt x="69" y="367"/>
                </a:lnTo>
                <a:lnTo>
                  <a:pt x="0" y="367"/>
                </a:lnTo>
                <a:lnTo>
                  <a:pt x="173" y="141"/>
                </a:lnTo>
                <a:lnTo>
                  <a:pt x="173" y="0"/>
                </a:lnTo>
                <a:lnTo>
                  <a:pt x="202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92440" y="3986280"/>
            <a:ext cx="11674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: 10-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: 7/9-16-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72360" y="5486400"/>
            <a:ext cx="5780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Cianuro d’oro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        Ammoniaca gassosa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    Esplos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960" y="1638360"/>
            <a:ext cx="15620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Alcuni esempi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DANGER7" descr=""/>
          <p:cNvPicPr/>
          <p:nvPr/>
        </p:nvPicPr>
        <p:blipFill>
          <a:blip r:embed="rId3"/>
          <a:stretch/>
        </p:blipFill>
        <p:spPr>
          <a:xfrm>
            <a:off x="2971800" y="2438280"/>
            <a:ext cx="1419120" cy="1419480"/>
          </a:xfrm>
          <a:prstGeom prst="rect">
            <a:avLst/>
          </a:prstGeom>
          <a:ln w="0">
            <a:noFill/>
          </a:ln>
        </p:spPr>
      </p:pic>
      <p:pic>
        <p:nvPicPr>
          <p:cNvPr id="200" name="DANGER7" descr=""/>
          <p:cNvPicPr/>
          <p:nvPr/>
        </p:nvPicPr>
        <p:blipFill>
          <a:blip r:embed="rId4"/>
          <a:stretch/>
        </p:blipFill>
        <p:spPr>
          <a:xfrm>
            <a:off x="5210280" y="2438280"/>
            <a:ext cx="1419120" cy="1419480"/>
          </a:xfrm>
          <a:prstGeom prst="rect">
            <a:avLst/>
          </a:prstGeom>
          <a:ln w="0">
            <a:noFill/>
          </a:ln>
        </p:spPr>
      </p:pic>
      <p:pic>
        <p:nvPicPr>
          <p:cNvPr id="201" name="DANG2" descr=""/>
          <p:cNvPicPr/>
          <p:nvPr/>
        </p:nvPicPr>
        <p:blipFill>
          <a:blip r:embed="rId5"/>
          <a:stretch/>
        </p:blipFill>
        <p:spPr>
          <a:xfrm>
            <a:off x="7238880" y="2438280"/>
            <a:ext cx="1390680" cy="1524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571920" y="21193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1960" y="2119320"/>
            <a:ext cx="40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Quadro legislativo</a:t>
            </a:r>
            <a:endParaRPr b="1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75440" y="1897200"/>
            <a:ext cx="73220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DPR n° 547 del 27/04/5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403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REGISTRO INFORTU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Le aziende soggette al presente decreto devono tene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registro nel quale siano annotati cronologicam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tutti gli infortuni occorsi ai lavoratori dipendenti 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comportino un’assenza dal lavoro superiore a 3 giorn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compreso l’event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404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STATISTICA DEGLI INFORTU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L’ispettorato del lavoro provvede alla rilevazion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elaborazione e pubblicazione delle statistiche sugl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nfortuni del lavoro e sulle malattie professionali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secondo i criteri che saranno fissati dal minist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del lavoro e previdenza sociale. I datori di 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sono tenuti a comunicare agli ispettorati del lavoro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gli infortuni e le malattie professionali verificat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Quadro legislativ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03240" y="1897200"/>
            <a:ext cx="7214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DM 12/09/58 ISTITUZIONE DEL REGISTRO DEGLI INFORTU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1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MODELLO CONFOR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l registro degli infortuni,…., deve essere conforme al mod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llegato al presente decreto(lett.A) e deve riportare nel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copertina, od in altra sua parte, le note esplicative alleg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(lett.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2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MODALITA’ DI TENU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l registro degli infortuni deve essere intestato all’azie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lla quale si riferisce, legato e numerato in ogni pagi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Prima di essere messo in uso, il registro deve essere presenta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ll’Ispettorato del lavoro competente per il territorio, il qu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lo contrassegna in ogni sua parte dichiarando nell’ulti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pagina il numero di fogli che lo compongono e la data d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rilascio. Il registro deve essere tenuto senza alcuno spaz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bianco… Il registro deve essere conservato per almeno 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nni dall’ultima registrazione e, se non usato, dalla data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cui fu vidima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Quadro legislativ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50840" y="1822320"/>
            <a:ext cx="72550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DPR n° 1124 del 30/06/65 Testo unico per le disposizioni per l’assicurazione obbligatoria contro gli infortuni sul lavoro e le malattie professi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10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L’assicurazione a norma del presente decreto esonera il datore di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lavoro dalla responsabilità civile per gli infortuni sul lavoro.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Nonostante l’assicurazione predetta permane la responsabilità civile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 carico di coloro che abbiano riportato condanna penale per il fatto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dal quale l’infortunio è derivato. Permane altresì la responsabilità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civile del datore di lavoro quando la sentenza penale stabilisca che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l’infortunio sia avvenuto per fatto imputabile a coloro che egli ha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ncaricato della direzione o sorveglianza del lavoro se del fatto di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essi debba rispondere secondo il codice civ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20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 datori di lavoro soggetti alle disposizioni del presente titolo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devono tene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1) un libro matricola nel quale siano iscritti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2) un libro paga il qual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21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l libro paga e quello di matricola devono essere presentati nel luogo in cui si compia il lavoro, ad ogni richiesta agli incaricati deel’istituto di assicurazione; a tal fine i libri non possono essere rimossi, neanche temporaneamente, dal luogo di lavo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Quadro legislativ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27160" y="1822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050840" y="1897200"/>
            <a:ext cx="733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DPR n° 1124 del 30/06/65 Testo unico per le disposizioni per l’assicurazione obbligatoria contro gli infortuni sul lavoro e le malattie professi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52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L’assicurato è obbligato a dare immediata notizia di qualsiasi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nfortunio che gli accade, anche se di lieve entità, al proprio datore di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lavoro….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53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Il datore di lavoro è tenuto a denunciare all’istituto assicuratore di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cui siano stati colpiti i dipendenti prestatori d’opera, e che siano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prognosticati non guaribili entro tre gior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La denuncia dell’infortunio deve essere fatta con le modalità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dell’articolo 13 entro 2 giorni da quello in cui il datore di lavoro ne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ha avuto notizia e deve essere corredata da certificato medico.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Se si tratta di infortunio che abbia prodotto la morte... La denuncia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deve essere fatta per telegrafo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ntro 24 ore dall’infortunio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Quadro legislativ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9000" y="2049480"/>
            <a:ext cx="7292880" cy="44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Book Antiqua"/>
              </a:rPr>
              <a:t>DPR n° 1124 del 30/06/65 Testo unico per le disposizioni per l’assicurazione obbligatoria contro gli infortuni sul lavoro e le malattie professi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54    Il datore di lavoro, anche se non soggetto, agli obblighi del presnte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titolo, deve, nel termine di 2 giornidare notizia all’autorità locale di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pubblica sicurezza di ogni infortunio sul lavoro che abbia per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conseguenza la morte o l’inabilità al lavoro per più di 3 giorni. Per i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datori di lavoro soggetti all’obbligo della assicurazione, la denuncia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deve essere fatta secondo il modulo previsto dall’art. 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56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L’autorità di pubblica sicurezza, appena ricevuta la denuncia di cui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ll’art. 54, deve rimrttere, per ogni caso denunciato di infortunio, in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conseguenza del quale un prestatore d’opera sia deceduto o abbia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sofferto lesioni tali da doversene prevedere la morte o una inabilità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superiore ai 30 giorni e si tratti di lavoro soggetto all’obbligo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dell’assicurazione, un esemplare della denuncia al pretore nella cui 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circoscrizione sia avvenuto l’infortun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Quadro legislativo</a:t>
            </a:r>
            <a:endParaRPr b="1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4880" y="1820880"/>
            <a:ext cx="7254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DPR n° 1124 del 30/06/65 Testo unico per le disposizioni per l’assicurazione obbligatoria contro gli infortuni sul lavoro e le malattie professional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ART.13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odulo di denu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La denuncia dei lavori e delle modificazioni di essi, la denuncia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degli infortuni e tutte le comunicazioni all’istituto assicuratore nella 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quale si svolgono i lavori… e sui moduli dallo stesso predisposti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0-31T11:03:32Z</dcterms:created>
  <dc:creator>Responsabile</dc:creator>
  <dc:description/>
  <dc:language>en-US</dc:language>
  <cp:lastModifiedBy>ELIS</cp:lastModifiedBy>
  <cp:lastPrinted>1995-11-30T16:50:42Z</cp:lastPrinted>
  <dcterms:modified xsi:type="dcterms:W3CDTF">1998-01-22T17:41:40Z</dcterms:modified>
  <cp:revision>36</cp:revision>
  <dc:subject/>
  <dc:title>La prevenzione degli infortuni</dc:title>
</cp:coreProperties>
</file>