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8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2.wmf" ContentType="image/x-wmf"/>
  <Override PartName="/ppt/media/image7.jpeg" ContentType="image/jpeg"/>
  <Override PartName="/ppt/media/image9.jpeg" ContentType="image/jpeg"/>
  <Override PartName="/ppt/media/image1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2160" y="271440"/>
            <a:ext cx="7626240" cy="11764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2160" y="1676520"/>
            <a:ext cx="7626240" cy="1967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92160" y="3830760"/>
            <a:ext cx="7626240" cy="1967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2160" y="271440"/>
            <a:ext cx="7626240" cy="11764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2160" y="1676520"/>
            <a:ext cx="3721320" cy="1967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99960" y="1676520"/>
            <a:ext cx="3721320" cy="1967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92160" y="3830760"/>
            <a:ext cx="3721320" cy="1967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99960" y="3830760"/>
            <a:ext cx="3721320" cy="1967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2160" y="271440"/>
            <a:ext cx="7626240" cy="11764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92160" y="1676520"/>
            <a:ext cx="2455560" cy="1967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70840" y="1676520"/>
            <a:ext cx="2455560" cy="1967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49520" y="1676520"/>
            <a:ext cx="2455560" cy="1967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92160" y="3830760"/>
            <a:ext cx="2455560" cy="1967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70840" y="3830760"/>
            <a:ext cx="2455560" cy="1967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49520" y="3830760"/>
            <a:ext cx="2455560" cy="1967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2160" y="271440"/>
            <a:ext cx="7626240" cy="11764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92160" y="1676520"/>
            <a:ext cx="7626240" cy="412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2160" y="271440"/>
            <a:ext cx="7626240" cy="11764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92160" y="1676520"/>
            <a:ext cx="7626240" cy="412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2160" y="271440"/>
            <a:ext cx="7626240" cy="11764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2160" y="1676520"/>
            <a:ext cx="3721320" cy="412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99960" y="1676520"/>
            <a:ext cx="3721320" cy="412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2160" y="271440"/>
            <a:ext cx="7626240" cy="11764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92160" y="271440"/>
            <a:ext cx="7626240" cy="545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2160" y="271440"/>
            <a:ext cx="7626240" cy="11764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92160" y="1676520"/>
            <a:ext cx="3721320" cy="1967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9960" y="1676520"/>
            <a:ext cx="3721320" cy="412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92160" y="3830760"/>
            <a:ext cx="3721320" cy="1967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2160" y="271440"/>
            <a:ext cx="7626240" cy="11764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92160" y="1676520"/>
            <a:ext cx="3721320" cy="412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9960" y="1676520"/>
            <a:ext cx="3721320" cy="1967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99960" y="3830760"/>
            <a:ext cx="3721320" cy="1967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2160" y="271440"/>
            <a:ext cx="7626240" cy="11764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2160" y="1676520"/>
            <a:ext cx="3721320" cy="1967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9960" y="1676520"/>
            <a:ext cx="3721320" cy="1967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92160" y="3830760"/>
            <a:ext cx="7626240" cy="1967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2160" y="271440"/>
            <a:ext cx="7626240" cy="11764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2160" y="1676520"/>
            <a:ext cx="7626240" cy="412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365880" y="6316560"/>
            <a:ext cx="2554200" cy="43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europa" descr=""/>
          <p:cNvPicPr/>
          <p:nvPr/>
        </p:nvPicPr>
        <p:blipFill>
          <a:blip r:embed="rId2"/>
          <a:stretch/>
        </p:blipFill>
        <p:spPr>
          <a:xfrm>
            <a:off x="7620120" y="228600"/>
            <a:ext cx="1247760" cy="839880"/>
          </a:xfrm>
          <a:prstGeom prst="rect">
            <a:avLst/>
          </a:prstGeom>
          <a:ln w="0">
            <a:noFill/>
          </a:ln>
        </p:spPr>
      </p:pic>
      <p:pic>
        <p:nvPicPr>
          <p:cNvPr id="4" name="europa" descr=""/>
          <p:cNvPicPr/>
          <p:nvPr/>
        </p:nvPicPr>
        <p:blipFill>
          <a:blip r:embed="rId3"/>
          <a:stretch/>
        </p:blipFill>
        <p:spPr>
          <a:xfrm>
            <a:off x="7543800" y="228600"/>
            <a:ext cx="1247760" cy="83988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922320" y="6491160"/>
            <a:ext cx="821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Criteri per la scelta delle misure di prevenzione -- Programma LEONAR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2285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ff"/>
                </a:solidFill>
                <a:latin typeface="Times New Roman"/>
              </a:rPr>
              <a:t>CRITER1 PER LA SCELTA DELLE MISURE DI PROTEZIONE SECONDO LE VA RIE CONDIZIONI DI INFLUENZE ESTERNE</a:t>
            </a:r>
            <a:br>
              <a:rPr sz="3200"/>
            </a:b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626240" cy="11764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ff"/>
                </a:solidFill>
                <a:latin typeface="Times New Roman"/>
              </a:rPr>
              <a:t>Protezione contro i contatti indiretti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92160" y="1676520"/>
            <a:ext cx="7626240" cy="412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 fontScale="96000"/>
          </a:bodyPr>
          <a:p>
            <a:pPr marL="329040" indent="-329040">
              <a:lnSpc>
                <a:spcPct val="88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Sono ammesse solo le seguenti misure di protezion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88000"/>
              </a:lnSpc>
              <a:spcBef>
                <a:spcPts val="499"/>
              </a:spcBef>
              <a:buClr>
                <a:srgbClr val="0066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per l'alimentazione di utensili portatili e di apparecchi di misura trasportabili o mobil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88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con circuiti SELV, opp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88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separazione elettrica con la condizione che venga collegato un solo componente elettrico a ciascun awolgimento secondario dei trasformatori di isola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88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Nota: un trasformatore di isolamento può avere parecchi avvolgimenti second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88000"/>
              </a:lnSpc>
              <a:spcBef>
                <a:spcPts val="499"/>
              </a:spcBef>
              <a:buClr>
                <a:srgbClr val="0066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per l'alimentazione di lampade portatil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88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circuiti SEL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88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Nota: è ammesso anche l'uso di lampade fluorescenti portatili con incorporato un trasformatore elevatore (con due avvolgimenti) alimentato con circuito SEL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626240" cy="11764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ff"/>
                </a:solidFill>
                <a:latin typeface="Times New Roman"/>
              </a:rPr>
              <a:t>Protezione contro i contatti indiretti</a:t>
            </a:r>
            <a:br>
              <a:rPr sz="3200"/>
            </a:br>
            <a:r>
              <a:rPr b="0" i="1" lang="it-IT" sz="3200" spc="-1" strike="noStrike">
                <a:solidFill>
                  <a:srgbClr val="0000ff"/>
                </a:solidFill>
                <a:latin typeface="Times New Roman"/>
              </a:rPr>
              <a:t>(segue)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2160" y="1676520"/>
            <a:ext cx="7626240" cy="412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 fontScale="94000"/>
          </a:bodyPr>
          <a:p>
            <a:pPr marL="322200" indent="-322200" algn="just">
              <a:lnSpc>
                <a:spcPct val="138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Le sorgenti di alimentazione SELV e quelle di isolamento devono essere situate all'esterno del luogo conduttore ristretto a meno che esse non facciano parte dell'impianto fisso situato all'interno del luogo conduttore ristret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lnSpc>
                <a:spcPct val="138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Se nel luogo conduttore ristretto si trovano componenti elettrici che richiedono una messa a terra funzionale, come per es. apparecchi di misura e di controllo, si deve realizzare un collegamento equipotenziale supplementare che colleghi le masse e le masse estranee che si trovano all'interno del luogo conduttore ristretto, ed il dispersore per la messa a terra funziona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626240" cy="11764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ff"/>
                </a:solidFill>
                <a:latin typeface="Times New Roman"/>
              </a:rPr>
              <a:t>Dalla CEI 64-8/4 prescrizioni per la sicurezza</a:t>
            </a:r>
            <a:br>
              <a:rPr sz="3200"/>
            </a:b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2160" y="1676520"/>
            <a:ext cx="7626240" cy="412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 fontScale="92000"/>
          </a:bodyPr>
          <a:p>
            <a:pPr marL="315360" indent="-315360">
              <a:lnSpc>
                <a:spcPct val="93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413.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Protezione dai contatti indiret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3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413.1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Protezione mediante interruzione automatica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dell'alimenta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3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413.1.1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Generalit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3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413.1.1.1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Interruzione dell'alimenta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3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413.1.1.2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Messa a ter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3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413.1.2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Collegamenti equipotenzia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3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413.1.2.1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Collegamenti equipotenziale princip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3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413.1.2.2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Collegamento equipotenziale supplement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3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413.1.3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Sistemi T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3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413.1.4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Sistemi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3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413.1.5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Sistemi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3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413.1.6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Collegamento equipotenziale supplement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626240" cy="11764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ff"/>
                </a:solidFill>
                <a:latin typeface="Times New Roman"/>
              </a:rPr>
              <a:t>Dalla CEI 64-8/4 prescrizioni per la sicurezza</a:t>
            </a:r>
            <a:br>
              <a:rPr sz="3200"/>
            </a:b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2160" y="1676520"/>
            <a:ext cx="7626240" cy="412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43080" indent="-343080">
              <a:lnSpc>
                <a:spcPct val="156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413 2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Protezione mediante componenti di classe II o con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isolamento equivalen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6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413.3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Protezione per mezzo di luoghi non conduttor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6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413.4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Protezione per mezzo di collegamento equipotenziale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locale non connesso a terr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6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413.5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Protezione per separazlone elettr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94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2160" y="271440"/>
            <a:ext cx="7626240" cy="11764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ff"/>
                </a:solidFill>
                <a:latin typeface="Times New Roman"/>
              </a:rPr>
              <a:t>Sistema TN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69" name="74" descr=""/>
          <p:cNvPicPr/>
          <p:nvPr/>
        </p:nvPicPr>
        <p:blipFill>
          <a:blip r:embed="rId1"/>
          <a:stretch/>
        </p:blipFill>
        <p:spPr>
          <a:xfrm>
            <a:off x="1143000" y="1219320"/>
            <a:ext cx="7230960" cy="47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2160" y="271440"/>
            <a:ext cx="7626240" cy="11764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ff"/>
                </a:solidFill>
                <a:latin typeface="Times New Roman"/>
              </a:rPr>
              <a:t>Sistema TT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71" name="75" descr=""/>
          <p:cNvPicPr/>
          <p:nvPr/>
        </p:nvPicPr>
        <p:blipFill>
          <a:blip r:embed="rId1"/>
          <a:stretch/>
        </p:blipFill>
        <p:spPr>
          <a:xfrm>
            <a:off x="949320" y="1209600"/>
            <a:ext cx="724392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2160" y="271440"/>
            <a:ext cx="7626240" cy="11764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ff"/>
                </a:solidFill>
                <a:latin typeface="Times New Roman"/>
              </a:rPr>
              <a:t>SELV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73" name="76" descr=""/>
          <p:cNvPicPr/>
          <p:nvPr/>
        </p:nvPicPr>
        <p:blipFill>
          <a:blip r:embed="rId1"/>
          <a:stretch/>
        </p:blipFill>
        <p:spPr>
          <a:xfrm>
            <a:off x="644400" y="1527120"/>
            <a:ext cx="7853400" cy="38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2160" y="271440"/>
            <a:ext cx="7626240" cy="11764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ff"/>
                </a:solidFill>
                <a:latin typeface="Times New Roman"/>
              </a:rPr>
              <a:t>PELV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75" name="77" descr=""/>
          <p:cNvPicPr/>
          <p:nvPr/>
        </p:nvPicPr>
        <p:blipFill>
          <a:blip r:embed="rId1"/>
          <a:stretch/>
        </p:blipFill>
        <p:spPr>
          <a:xfrm>
            <a:off x="663480" y="1514520"/>
            <a:ext cx="781704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2160" y="271440"/>
            <a:ext cx="7626240" cy="11764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ff"/>
                </a:solidFill>
                <a:latin typeface="Times New Roman"/>
              </a:rPr>
              <a:t>FELV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77" name="78" descr=""/>
          <p:cNvPicPr/>
          <p:nvPr/>
        </p:nvPicPr>
        <p:blipFill>
          <a:blip r:embed="rId1"/>
          <a:stretch/>
        </p:blipFill>
        <p:spPr>
          <a:xfrm>
            <a:off x="345960" y="1219320"/>
            <a:ext cx="84502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92160" y="271440"/>
            <a:ext cx="7626240" cy="11764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ff"/>
                </a:solidFill>
                <a:latin typeface="Times New Roman"/>
              </a:rPr>
              <a:t>Sistema TT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79" name="79" descr=""/>
          <p:cNvPicPr/>
          <p:nvPr/>
        </p:nvPicPr>
        <p:blipFill>
          <a:blip r:embed="rId1"/>
          <a:stretch/>
        </p:blipFill>
        <p:spPr>
          <a:xfrm>
            <a:off x="1295280" y="1295280"/>
            <a:ext cx="681696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26240" cy="11764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ff"/>
                </a:solidFill>
                <a:latin typeface="Times New Roman"/>
              </a:rPr>
              <a:t>Scelta delle misure di protezione</a:t>
            </a:r>
            <a:br>
              <a:rPr sz="3200"/>
            </a:br>
            <a:r>
              <a:rPr b="0" i="1" lang="it-IT" sz="3200" spc="-1" strike="noStrike">
                <a:solidFill>
                  <a:srgbClr val="0000ff"/>
                </a:solidFill>
                <a:latin typeface="Times New Roman"/>
              </a:rPr>
              <a:t>contro i contatti diretti</a:t>
            </a:r>
            <a:br>
              <a:rPr sz="3200"/>
            </a:b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92160" y="1676520"/>
            <a:ext cx="7626240" cy="412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Le misure di protezione mediante isolamento delle parti attive e mediante involucri o barriere si applicano 1n tutte le condizioni di influenze ester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Le misure di protezione mediante ostacoli o mediante distanziamento sono permesse 1n locali accessibili solo a persone addestrate, se sono soddisfatte le seguenti condizion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66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larghezza del passaggio tra ostacoli, tra organi di comando oppure tra ostacoli od organi di comando a parete: 700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66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altezza del passaggio all'interno del quadro: 2000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66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i passaggi di manutenzione o di servizio che siano lunghi più di 20 m devono essere accessibili da entrambe le estremità. Per passaggi più brevi, ma di lunghezza superiore a 6 m, si raccomanda l'accessibilità da entrambe le estremit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66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i luoghi siano chiaramente e visibilmente contrassegnati mediante opportune segnalazi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626240" cy="11764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ff"/>
                </a:solidFill>
                <a:latin typeface="Times New Roman"/>
              </a:rPr>
              <a:t>Protezione per separazione elettrica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92160" y="1676520"/>
            <a:ext cx="7626240" cy="412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43080" indent="-343080">
              <a:lnSpc>
                <a:spcPct val="16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Una sorgente di alimentazione può anche alimentare più utilizzatori a condizioni che si mantenga tutto il circuito perfettamente isolato e che si attuino le seguenti misu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43000"/>
              </a:lnSpc>
              <a:spcBef>
                <a:spcPts val="499"/>
              </a:spcBef>
              <a:buClr>
                <a:srgbClr val="0066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tutte le masse del circuito separato devono essere collegate tra loro ad un conduttore equipotenziale evitando collegamenti al conduttore di prote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43000"/>
              </a:lnSpc>
              <a:spcBef>
                <a:spcPts val="499"/>
              </a:spcBef>
              <a:buClr>
                <a:srgbClr val="0066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tutti i circuiti devono essere protetti dalle sovracorren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2160" y="271440"/>
            <a:ext cx="7626240" cy="11764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ff"/>
                </a:solidFill>
                <a:latin typeface="Times New Roman"/>
              </a:rPr>
              <a:t>Separazione elettrica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83" name="80" descr=""/>
          <p:cNvPicPr/>
          <p:nvPr/>
        </p:nvPicPr>
        <p:blipFill>
          <a:blip r:embed="rId1"/>
          <a:stretch/>
        </p:blipFill>
        <p:spPr>
          <a:xfrm>
            <a:off x="1905120" y="1295280"/>
            <a:ext cx="5767200" cy="48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200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ff"/>
                </a:solidFill>
                <a:latin typeface="Times New Roman"/>
              </a:rPr>
              <a:t>GRADI DI PROTEZIONE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2160" y="271440"/>
            <a:ext cx="7626240" cy="11764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ff"/>
                </a:solidFill>
                <a:latin typeface="Times New Roman"/>
              </a:rPr>
              <a:t>Struttura del codice IP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-838080" y="1295280"/>
            <a:ext cx="9982080" cy="202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 lvl="2" marL="914400">
              <a:lnSpc>
                <a:spcPct val="8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Lettere caratteristiche (Protezione internazionale)               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Prima cifra caratteristica (cifra da O a 6, o lettera X)              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Seconda cifra caratteristica (cifra da O a 8, o lettera X)              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Lettera addizionale (opzionale) (lettera A, B, C, D)                      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4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Lettera supplementare (opzionale)  (lettere H,M,S,W)                      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2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181480" y="1523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560" rIns="885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486400" y="17524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560" rIns="885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91320" y="19810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560" rIns="885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410080" y="2209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560" rIns="885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25146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560" rIns="885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-1752480" y="2971800"/>
            <a:ext cx="10896480" cy="38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 lvl="4" marL="1828800">
              <a:lnSpc>
                <a:spcPct val="72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Quando non sia richiesta una cifra caratteristica, quest'ultima deve essere sostituita dalla lettera"X" ("XX" se sono omesse entrambe le cifre)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72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e lettere addizionali e/o supplementari possono essere omesse senza essere sostituite. Nel caso di più lettere supplementari, si deve applicare l'ordine alfabetico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72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e un involucro fornisce diversi gradi di protezione per differenti sistemi di montaggio, il costruttore deve indicare nelle istruzioni i gradi di protezione corrispondenti ai differenti sistemi di montagg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2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7626600" cy="11764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ff"/>
                </a:solidFill>
                <a:latin typeface="Times New Roman"/>
              </a:rPr>
              <a:t>Elementi della struttura del codice IP</a:t>
            </a:r>
            <a:br>
              <a:rPr sz="2000"/>
            </a:br>
            <a:r>
              <a:rPr b="0" i="1" lang="it-IT" sz="2000" spc="-1" strike="noStrike">
                <a:solidFill>
                  <a:srgbClr val="0000ff"/>
                </a:solidFill>
                <a:latin typeface="Times New Roman"/>
              </a:rPr>
              <a:t>e loro significati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1752480" y="762120"/>
          <a:ext cx="5410440" cy="5486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762120"/>
                    <a:ext cx="541044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7626240" cy="117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ff"/>
                </a:solidFill>
                <a:latin typeface="Times New Roman"/>
              </a:rPr>
              <a:t>Esempi di uso di 1ettere nel codice IP</a:t>
            </a:r>
            <a:br>
              <a:rPr sz="3200"/>
            </a:b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90720" y="1219320"/>
            <a:ext cx="7626240" cy="412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 fontScale="92000"/>
          </a:bodyPr>
          <a:p>
            <a:pPr marL="315360" indent="-315360">
              <a:lnSpc>
                <a:spcPct val="122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I seguenti esempi spiegano l'uso e la posizione delle lettere nel codice 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72000"/>
              </a:lnSpc>
              <a:spcBef>
                <a:spcPts val="499"/>
              </a:spcBef>
              <a:buClr>
                <a:srgbClr val="0066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IP44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nessuna lettera, nessuna opzl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72000"/>
              </a:lnSpc>
              <a:spcBef>
                <a:spcPts val="499"/>
              </a:spcBef>
              <a:buClr>
                <a:srgbClr val="0066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IPX5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omissione della prima cifra caratterist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72000"/>
              </a:lnSpc>
              <a:spcBef>
                <a:spcPts val="499"/>
              </a:spcBef>
              <a:buClr>
                <a:srgbClr val="0066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IP2X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omissione della seconda cifra caratterist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72000"/>
              </a:lnSpc>
              <a:spcBef>
                <a:spcPts val="499"/>
              </a:spcBef>
              <a:buClr>
                <a:srgbClr val="0066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IP20C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uso della lettera addizion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72000"/>
              </a:lnSpc>
              <a:spcBef>
                <a:spcPts val="499"/>
              </a:spcBef>
              <a:buClr>
                <a:srgbClr val="0066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IPXXC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omissione di entrambe le cifre caratteristiche, uso della lettera addizion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72000"/>
              </a:lnSpc>
              <a:spcBef>
                <a:spcPts val="499"/>
              </a:spcBef>
              <a:buClr>
                <a:srgbClr val="0066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IPX1 C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omissione della prima cifra caratteristica, uso della lettera addizion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72000"/>
              </a:lnSpc>
              <a:spcBef>
                <a:spcPts val="499"/>
              </a:spcBef>
              <a:buClr>
                <a:srgbClr val="0066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IP3XD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omissione della seconda cifra caratteristica, uso della lettera addizion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72000"/>
              </a:lnSpc>
              <a:spcBef>
                <a:spcPts val="499"/>
              </a:spcBef>
              <a:buClr>
                <a:srgbClr val="0066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IP23S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uso della lettera supplement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72000"/>
              </a:lnSpc>
              <a:spcBef>
                <a:spcPts val="499"/>
              </a:spcBef>
              <a:buClr>
                <a:srgbClr val="0066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IP21 CM  uso della lettera addizionale e della lettera supplement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72000"/>
              </a:lnSpc>
              <a:spcBef>
                <a:spcPts val="499"/>
              </a:spcBef>
              <a:buClr>
                <a:srgbClr val="0066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IPX5/IPX7  esempio di due gradi di protezione diversi dall'involucro usato per applicazione doppia, sia contro i getti d'acqua sia contro l'immersione temporane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122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626240" cy="11764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ff"/>
                </a:solidFill>
                <a:latin typeface="Times New Roman"/>
              </a:rPr>
              <a:t>Gradi di protezione contro l'accesso a parti pericolose indicati dalla lettera addizionale</a:t>
            </a:r>
            <a:br>
              <a:rPr sz="3200"/>
            </a:b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219320" y="1219320"/>
          <a:ext cx="7467480" cy="50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219320"/>
                    <a:ext cx="7467480" cy="50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626240" cy="11764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ff"/>
                </a:solidFill>
                <a:latin typeface="Times New Roman"/>
              </a:rPr>
              <a:t>Scelta delle misure di protezione</a:t>
            </a:r>
            <a:br>
              <a:rPr sz="3200"/>
            </a:br>
            <a:r>
              <a:rPr b="0" i="1" lang="it-IT" sz="3200" spc="-1" strike="noStrike">
                <a:solidFill>
                  <a:srgbClr val="0000ff"/>
                </a:solidFill>
                <a:latin typeface="Times New Roman"/>
              </a:rPr>
              <a:t>contro i contatti diretti(segue)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92160" y="1676520"/>
            <a:ext cx="7626240" cy="412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La protezione contro i contatti diretti non è richiesta nei luoghi accessibili solo a persone addestrate, se sono soddisfatte contemporaneamente le seguenti condizion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i luoghi siano indicati chiaramente e visibilmente mediante appropriate segnalazioni e non sia possibile accedere ad essi se non mediante mezzi special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4000"/>
              </a:lnSpc>
              <a:spcBef>
                <a:spcPts val="499"/>
              </a:spcBef>
              <a:buClr>
                <a:srgbClr val="0066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le porte d'ingresso in questi luoghi permettano una facile uscita verso l'esterno e, anche se esse sono chiuse esternamente con una chiave, sia possibile aprirle dall'interno senza l'uso di una chiav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4000"/>
              </a:lnSpc>
              <a:spcBef>
                <a:spcPts val="499"/>
              </a:spcBef>
              <a:buClr>
                <a:srgbClr val="0066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per i passaggi, siano rispettate le distanze minim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626240" cy="11764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ff"/>
                </a:solidFill>
                <a:latin typeface="Times New Roman"/>
              </a:rPr>
              <a:t>Tavola sinottica riassuntiva dei sistemi</a:t>
            </a:r>
            <a:br>
              <a:rPr sz="3200"/>
            </a:br>
            <a:r>
              <a:rPr b="0" i="1" lang="it-IT" sz="3200" spc="-1" strike="noStrike">
                <a:solidFill>
                  <a:srgbClr val="0000ff"/>
                </a:solidFill>
                <a:latin typeface="Times New Roman"/>
              </a:rPr>
              <a:t>SELV, PELV e FELV</a:t>
            </a:r>
            <a:br>
              <a:rPr sz="3200"/>
            </a:b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838080" y="1219320"/>
          <a:ext cx="6782040" cy="5086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219320"/>
                    <a:ext cx="6782040" cy="50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626240" cy="11764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ff"/>
                </a:solidFill>
                <a:latin typeface="Times New Roman"/>
              </a:rPr>
              <a:t>Tavola sinottica riassuntiva dei sistemi</a:t>
            </a:r>
            <a:br>
              <a:rPr sz="3200"/>
            </a:br>
            <a:r>
              <a:rPr b="0" i="1" lang="it-IT" sz="3200" spc="-1" strike="noStrike">
                <a:solidFill>
                  <a:srgbClr val="0000ff"/>
                </a:solidFill>
                <a:latin typeface="Times New Roman"/>
              </a:rPr>
              <a:t>SELV, PELV e FELV</a:t>
            </a:r>
            <a:br>
              <a:rPr sz="3200"/>
            </a:b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304920" y="990720"/>
          <a:ext cx="7162560" cy="5294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990720"/>
                    <a:ext cx="7162560" cy="529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ff"/>
                </a:solidFill>
                <a:latin typeface="Times New Roman"/>
              </a:rPr>
              <a:t>LUOGHI CONDUTTORI RISTRETTI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2160" y="271440"/>
            <a:ext cx="7626240" cy="11764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ff"/>
                </a:solidFill>
                <a:latin typeface="Times New Roman"/>
              </a:rPr>
              <a:t>Campo d'applicazione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92160" y="1676520"/>
            <a:ext cx="7626240" cy="412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 fontScale="96000"/>
          </a:bodyPr>
          <a:p>
            <a:pPr marL="329040" indent="-329040" algn="just">
              <a:lnSpc>
                <a:spcPct val="178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Un luogo conduttore ristretto è un luogo, essenzialmente delimitato da superfici metalliche o comunque conduttrici nel quale è probabile che una persona possa venire in contatto con tali superfici attraverso un'ampia parte del suo corpo, ed è limitata la possibilità di interrompere tale contatto. Le prescrizioni si applicano ai componenti fissi ne1 luoghi conduttori ristretti ed alle alimentazioni degli apparecchi utilizzatori mobili e trasportabili destinati ad essere utilizzati in tali luogh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228960" y="0"/>
            <a:ext cx="8008920" cy="11764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ff"/>
                </a:solidFill>
                <a:latin typeface="Times New Roman"/>
              </a:rPr>
              <a:t>Prescrizioni per la sicurezza</a:t>
            </a:r>
            <a:br>
              <a:rPr sz="3200"/>
            </a:br>
            <a:r>
              <a:rPr b="0" i="1" lang="it-IT" sz="3200" spc="-1" strike="noStrike">
                <a:solidFill>
                  <a:srgbClr val="0000ff"/>
                </a:solidFill>
                <a:latin typeface="Times New Roman"/>
              </a:rPr>
              <a:t>Protezione contro i contatti diretti ed indiretti</a:t>
            </a:r>
            <a:br>
              <a:rPr sz="3200"/>
            </a:b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92160" y="1676520"/>
            <a:ext cx="7626240" cy="412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 fontScale="98000"/>
          </a:bodyPr>
          <a:p>
            <a:pPr marL="335880" indent="-335880">
              <a:lnSpc>
                <a:spcPct val="188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Dove si utilizzano circuiti SELV, qualunque sia la tensione nominale, si deve prevedere la protezione contro i contatti diretti a mezzo d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88000"/>
              </a:lnSpc>
              <a:spcBef>
                <a:spcPts val="499"/>
              </a:spcBef>
              <a:buClr>
                <a:srgbClr val="0066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barriere od involucri che presentino almeno il grado di protezione IPXXB, opp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88000"/>
              </a:lnSpc>
              <a:spcBef>
                <a:spcPts val="499"/>
              </a:spcBef>
              <a:buClr>
                <a:srgbClr val="0066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un isolamento in grado di sopportare una tensione di prova di 500 V per 1 minu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626240" cy="11764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ff"/>
                </a:solidFill>
                <a:latin typeface="Times New Roman"/>
              </a:rPr>
              <a:t>Protezione contro i contatti diretti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92160" y="1676520"/>
            <a:ext cx="7626240" cy="412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Le misure di protezione mediante 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ostacoli e distanziamento non sono permes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0-27T17:47:50Z</dcterms:created>
  <dc:creator>Paolo SGRECCIA</dc:creator>
  <dc:description/>
  <dc:language>en-US</dc:language>
  <cp:lastModifiedBy>ELIS</cp:lastModifiedBy>
  <dcterms:modified xsi:type="dcterms:W3CDTF">1998-02-09T15:11:10Z</dcterms:modified>
  <cp:revision>84</cp:revision>
  <dc:subject/>
  <dc:title>Nessun titolo diapositiva</dc:title>
</cp:coreProperties>
</file>