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906560" y="361260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7604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2792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4964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90656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432792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74964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19280" y="271080"/>
            <a:ext cx="7161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57604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06560" y="361260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57604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2792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749640" y="121932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0656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2792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749640" y="3612600"/>
            <a:ext cx="230580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9280" y="271080"/>
            <a:ext cx="7161120" cy="36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76040" y="361260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76040" y="1219320"/>
            <a:ext cx="34945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906560" y="3612600"/>
            <a:ext cx="7161120" cy="218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2" name="europ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71440" cy="7887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282920" y="62085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6/94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" name="europa" descr=""/>
          <p:cNvPicPr/>
          <p:nvPr/>
        </p:nvPicPr>
        <p:blipFill>
          <a:blip r:embed="rId2"/>
          <a:stretch/>
        </p:blipFill>
        <p:spPr>
          <a:xfrm>
            <a:off x="8229600" y="304920"/>
            <a:ext cx="1171440" cy="788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282920" y="620856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26/94 -- Programma LEON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l decreto legislativo 626/94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19520" y="2292480"/>
            <a:ext cx="4066920" cy="25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INTRODUZIONE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E</a:t>
            </a:r>
            <a:br>
              <a:rPr sz="3200"/>
            </a:b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RINCIPI</a:t>
            </a:r>
            <a:br>
              <a:rPr sz="4400"/>
            </a:b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GENERA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Unità a maggior rischio di incendi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19040" y="10094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tatistica dell’attività svolta dal Corpo Nazionale dei Vigili del Fuoco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nno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Numero incendi in ospedali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3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4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4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6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6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95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7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87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8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32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79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29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Medi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04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Il numero di incendi anno prevedibili per le varie aree a rischio presenti in un generico comparto tipo sono: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cavedi tecnic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54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camere di degenz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Sale guardie e cucina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Archivi e magazzin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laboratori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9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Totale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104 </a:t>
            </a:r>
            <a:endParaRPr b="1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oblematic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29880" y="1600200"/>
            <a:ext cx="716148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Quasi totale assenza di persone e quindi un controllo poco frequente delle condizioni strutturali ed impiantistiche che, in molti casi, si evidenziano a causa di un guasto e quindi di un disservizio (Es. ascensore bloccato, linea elettrica interrotta, ecc.)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Il passaggio di tecnologie a volte incompatibili (Es. linee elettriche di alimentazione dell’impianto di sollevamento e reti di distribuzione di gas medicali, ecc). Inoltre canne ascensori e cavedi tecnici verticali propagano velocemente l’incendi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77680" y="1219320"/>
            <a:ext cx="818964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Datore di lavor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l datore di lavor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Privat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è il “soggetto titolare del rapporto di lavoro con il lavoratore o, comunque, il soggetto che, secondo il tipo e l’organizzazione ovvero dell’unità produttiva, in quanto titolare dei POTERI DECISIONALI DI SPESA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l datore di lavoro nell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Book Antiqua"/>
              </a:rPr>
              <a:t>pubbliche amministrazioni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è il “dirigente al quale spettano i POTERI DI GESTIONE, ovvero il funzionario non avente qualifica dirigenziale, nei soli casi in cui quest’ultimo sia preposto ad un ufficio avente autonomia gestionale”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1487520" y="29016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00000" y="1409760"/>
            <a:ext cx="81900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Servizio di prevenzione e prot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sieme delle persone, sistemi e mezzi finalizzati all'attività di prevenzione e protezione dai rischi professionali nell'azienda ovvero nell'unità produ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63840" y="29016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49440" y="1447920"/>
            <a:ext cx="906624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Responsabile del servizio di prevenzione e prot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designata dal datore in possesso di attitudini e capacità adegu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Rappresentante dei lavoratori per la sicur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sona eletta o designata dai lavoratori per rappresentarli sulle tematiche della salute e della sicurez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39760" y="423720"/>
            <a:ext cx="71614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595440"/>
            <a:ext cx="7161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1280" y="27108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49440" y="1447920"/>
            <a:ext cx="8475480" cy="46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l complesso delle disposizioni o delle misure adottate o previste in tutte le fasi dell'attività lavorativa per evitare o diminuire i rischi professionali nel rispetto della salute della popolazione e dell'integrità dell'ambiente es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39760" y="423720"/>
            <a:ext cx="71614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595440"/>
            <a:ext cx="7161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82200" y="29016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49440" y="1681200"/>
            <a:ext cx="9066240" cy="43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5008"/>
                </a:solidFill>
                <a:latin typeface="Book Antiqua"/>
              </a:rPr>
              <a:t>Medico compet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medico in possesso di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Book Antiqua"/>
              </a:rPr>
              <a:t>uno dei seguenti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tito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specializzaz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in medicina del lavoro o  in  medicina  preventiva dei lavoratori  e  psicotecnica  o  in  tossicologia  industriale o specializzazione equipoll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docenza o libera docenza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in  medicina  del  lavoro  o  in  medicina  preventiva  dei  lavoratori  e   psicotecnica   o   in  tossicologia industriale o in igiene industriale o in fisiologia  ed igiene del lavo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 Antiqua"/>
              </a:rPr>
              <a:t>autorizzazione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 di cui all'art. 55 del decreto legislativo  15 agosto 1991, n. 2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9760" y="423720"/>
            <a:ext cx="71614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8840" y="595440"/>
            <a:ext cx="7161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660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20800" y="1523880"/>
            <a:ext cx="86281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Agente bi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qualsiasi  microrganismo  anche  se geneticamente modificato, coltura  cellulare  ed  endoparassita umano che potrebbe provocare infezioni, allergie o  intossicazio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08"/>
                </a:solidFill>
                <a:latin typeface="Book Antiqua"/>
              </a:rPr>
              <a:t>Agente canceroge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a sostanza che (con riferimento alle direttive 67/548/CEE e 88/379/CEE) "Può provocare il cancro" oppure "Può provocare il cancro per inalazion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39760" y="423720"/>
            <a:ext cx="716148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8840" y="595440"/>
            <a:ext cx="716148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63840" y="29016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760" y="1011240"/>
            <a:ext cx="14065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61 e 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16148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ISURE GENERALI DI TUTEL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55400" y="1839960"/>
            <a:ext cx="7923240" cy="35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tazione dei risch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iminazione dei rischi o riduzione al minim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erventi alla fo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grammazione della prevenzion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stituzione di ciò che è pericoloso con ciò che non lo è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petto dei principi ergonomic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77760" y="1030320"/>
            <a:ext cx="1254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Art.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112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ISURE GENERALI DI TUTEL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98240" y="1800360"/>
            <a:ext cx="7923240" cy="35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di protezione collettiva ed individua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mitazione al minimo dei lavoratori espos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tilizzo limitato degli agenti chimici, fisici e biologic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ollo sanitario dei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llontanamento dall'esposizione a risch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igienich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QUADRO NORMATIVO DI RIFERIMENTO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25640" y="1599840"/>
            <a:ext cx="7161120" cy="80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8000"/>
          </a:bodyPr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RETTIVA QUADR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n salto di qualità rilevante e un disegno giuridico di grande respiro.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TRE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CARDINI DELLA MODERNA PREVENZIONE SON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799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"/>
          <p:cNvSpPr/>
          <p:nvPr/>
        </p:nvSpPr>
        <p:spPr>
          <a:xfrm>
            <a:off x="2332080" y="5019840"/>
            <a:ext cx="648792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tecnica  - organizzazione  - uo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17240" y="2209680"/>
            <a:ext cx="4560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Book Antiqua"/>
              </a:rPr>
              <a:t>89/391/CEE 12 Giugno 1989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380880"/>
            <a:ext cx="716112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MISURE GENERALI DI TUTELA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96680" y="1733400"/>
            <a:ext cx="7923240" cy="353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di emergenz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so di segnali di avvertimento e di sicurezz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golare manutenzion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mazione, formazione, consultazione e partecipazion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struzioni adegua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"/>
          <p:cNvSpPr/>
          <p:nvPr/>
        </p:nvSpPr>
        <p:spPr>
          <a:xfrm>
            <a:off x="7776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decreto legislativo 626/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5200" y="2243160"/>
            <a:ext cx="3087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OBBLIGH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Times New Roman"/>
              </a:rPr>
              <a:t>PREVIS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L DATORE DI LAVORO,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76400" y="1820520"/>
            <a:ext cx="6951600" cy="326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mpiti del datore di lavoro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Valutazione dei rischi in relazione 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tura dell'attività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elta di attrezzatur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elta di sostanze e prepara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stemazione dei luoghi di lavor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L DATORE DI LAVORO,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01320" y="1600200"/>
            <a:ext cx="8418600" cy="28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Compiti del datore di lavoro</a:t>
            </a:r>
            <a:br>
              <a:rPr sz="2200"/>
            </a:b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A seguito della valutazione, elabora un documento contenente: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relazione sui criteri adottati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ndicazione delle misure preventive e protettive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ndicazione dei dispositivi di protezione utilizzati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il programma di attuazione delle misur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6880" y="27108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L DATORE DI LAVORO,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06640" y="1904760"/>
            <a:ext cx="7999200" cy="29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la valutazione ed il documento: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no elaborati in collaborazione con il responsabile del servizio di prevenzione e con il medico competente previa consultazione del rappresentante  dei lavoratori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 algn="just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ono rielaborati in occasione di modifiche del processo produttivo significative in materia di sicurezza e salute dei lavoratori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58880" y="404640"/>
            <a:ext cx="716112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SIGNAZION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696680" y="1562040"/>
            <a:ext cx="7923240" cy="31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l datore di lavor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2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gna gli addetti al servizio di prevenzione e protezi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gna il responsabile del serviz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mina il medico compet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16120" y="48060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SIGNAZION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68440" y="1562040"/>
            <a:ext cx="8151840" cy="31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l datore di lavoro, il dirigente e il preposto designano i lavoratori incaricati di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venzione incen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acuazione dei lavoratori in caso di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colo grave ed immedia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54160" indent="-25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nto soccors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73080" y="1658880"/>
            <a:ext cx="8056800" cy="32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ggiornano le misure di prevenzione e protezione in relazione a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3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utamenti organizzativ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radi di evoluzione della tecnica, della prevenzione e della protezion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31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314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endono provvedimenti appropriati per evitare che le misure tecniche adottate possano causare rischi per la salute della popolazione o deteriorare l'ambiente estern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63520" y="2209680"/>
            <a:ext cx="8056800" cy="32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ffidan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i compiti ai lavoratori tenendo conto di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apacità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 condizioni in rapporto a sicurezza e salu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rniscon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i lavoratori i mezzi di protezione necessari ed idone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ichiedon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i lavoratori l'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sservanz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di norme e disposizioni aziendali sulla sicurezza e l'uso  di mezzi protettivi forni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8120" y="2285640"/>
            <a:ext cx="8056440" cy="32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ndono le misure appropriate per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limitare l'access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lle zone che espongono ad un rischio grave e specifico ai soli lavoratori che abbiano ricevuto istruzioni adegua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metton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al rappresentante dei lavoratori di verificare l'applicazione delle misure di sicurezza e protezione della salu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ELENCO  DI TUTTE LE DIRETTIVE COMUNITARIE RECEPIT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AL D. LGS. 626 / 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2480" y="2095200"/>
            <a:ext cx="8342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9/391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glioramento della  salute e sicurezza durante il lavor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9/654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uoghi di lavor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9/655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ezzature di lavor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9/656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ezzature di protezione individual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/269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vimentazione  manuale dei carichi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/270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ttrezzature munite di videoterminali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/394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osizione ad agenti cancerogeni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90/679/CE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posizione ad agenti biologic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68080" y="1866600"/>
            <a:ext cx="8056440" cy="32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consultano il rappresentante dei lavoratori per la sicurezza in ordine a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tazione dei risch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tuazione della prevenzion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gnazione addetti ai servizi aziendal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mazione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8120" y="2361960"/>
            <a:ext cx="8056440" cy="32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chiedono al medico competente l'osservanza degli obblighi posti a suo carico e lo informano sui processi e sui rischi produttiv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ottano le misure necessarie per la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evenzione incendi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l'evacuazione dei lavoratori e per pericoli gravi ed immedia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1736640"/>
            <a:ext cx="8056440" cy="32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ottano le misure per il controllo delle situazioni in caso di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mergenza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e danno le istruzioni per l'abbandono della postazione di lavoro / zona pericolosa in caso di pericolo grave, immediato ed inevitabi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685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68560" indent="-26856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caso di esposizione al rischio di un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icolo grave ed immediato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, informano al più presto i lavoratori sul rischio stesso e sulle disposizioni prese o da prender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ALTRI OBBLIGHI DEL DATORE DI LAVORO, DIRIGENTE E PREPOS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96720" y="1828440"/>
            <a:ext cx="8056440" cy="322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caso di persistenza di un pericolo grave ed immediato si astengono dal richiedere ai lavoratori la ripresa dell'attività, salvo eccezioni debitamente motivat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engono un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egistro degli infortun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comportanti un'assenza dal lavoro superiore a 3 giorni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NOTA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Il preposto, nel momento in cui dà informazioni agli organi di vigilanza, è a tutti gli effetti il datore di lavor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53920" y="1219320"/>
            <a:ext cx="756108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 lavoratori devon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ndersi cura della propria sicurezza e salu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sservare le disposizioni ed istruzioni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arti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gnalare le deficienze dei mezzi e dispositiv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operarsi direttamente per eliminare o ridurre le deficienze di mezzi e dispositiv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 rimuovere o modificare dispositivi di sicurezza, segnalazione e controllo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53920" y="1219320"/>
            <a:ext cx="756108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 lavoratori devon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utilizzare correttam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acchinari e apparecchia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utensili e attrezzatur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stanze e preparati pericolos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zzi di trasport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spositivi di sicurezz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639800" y="1695600"/>
            <a:ext cx="756144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 lavoratori devon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n  compiere di propria iniziativa operazioni non di competenza, pericolose per sé o per alt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ottoporsi ai controlli sanitari previs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ibuire con il datore di lavoro all'adempimento degli obblighi per la tutela della sicurezza e della salu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304560"/>
            <a:ext cx="746604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imes New Roman"/>
              </a:rPr>
              <a:t>OBBLIGHI DEI PROGETTISTI DI LUOGHI/POSTI DI LAVORO O IMPIANTI</a:t>
            </a:r>
            <a:endParaRPr b="1" i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48960" y="2133720"/>
            <a:ext cx="7218360" cy="320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vono rispettare i principi generali di prevenzione al momento delle scelte progettuali e tecnich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celgono macchine e dispositivi di protezione rispondenti ai requisiti essenziali di sicurezza previsti dalla legislazione vig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6648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I FABBRICANTI E FORNI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887480" y="2400120"/>
            <a:ext cx="7142400" cy="24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Vietata la vendita, il noleggio, la concessione in uso e la locazione finanziaria di macchine, attrez-zature ed impianti non rispondenti alla legislazione vig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DEGLI INSTALLATORI E MONT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68440" y="1790640"/>
            <a:ext cx="8151840" cy="389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evon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tenersi alle norme di sicurezza ed igiene sul lavor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tenersi alle istruzioni fornite dai fabbrican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96840" y="103032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INCIPIO BASILARE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L D.LGS. 626 / 94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ossi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"/>
          <p:cNvSpPr/>
          <p:nvPr/>
        </p:nvSpPr>
        <p:spPr>
          <a:xfrm>
            <a:off x="2192400" y="1716120"/>
            <a:ext cx="6530760" cy="8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Unitarietà delle attività di 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eve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16280" y="3156120"/>
            <a:ext cx="7140240" cy="254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 Responsabilizzazion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totale del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atore di lavoro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, pubblico e privato, per la salute e la sicurezza dei lavor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 Partecipazione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ei lavoratori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alla realizzazione della sicurezza in azi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- Stato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motore, 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garante </a:t>
            </a: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e controllore della prevenzione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decreto legislativo 626 / 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05480" y="2286000"/>
            <a:ext cx="6941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ORGANIZZAZIONE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ELLA SICUREZZA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N AZIEN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I COMPITI DELLE</a:t>
            </a:r>
            <a:br>
              <a:rPr sz="3200"/>
            </a:b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DIVERSE FIGURE PROFESSIONA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8480" y="195120"/>
            <a:ext cx="7161120" cy="79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rganizzazione dell'aziend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11440" y="3065400"/>
            <a:ext cx="2882880" cy="1290600"/>
          </a:xfrm>
          <a:prstGeom prst="roundRect">
            <a:avLst>
              <a:gd name="adj" fmla="val 124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5360" y="3147840"/>
            <a:ext cx="24336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Datore di lavor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Rappresen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25600" y="1353960"/>
            <a:ext cx="2473200" cy="1186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APPRESENTAN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I LAVORATORI PER L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ICUREZ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06920" y="1392120"/>
            <a:ext cx="2473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EDIC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MPET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92760" y="1263600"/>
            <a:ext cx="2901960" cy="305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69160" y="1392120"/>
            <a:ext cx="2473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SPONSABI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L SERVIZI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69160" y="3114720"/>
            <a:ext cx="2473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DDETTI AL SERVIZIO D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VEN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3125880"/>
            <a:ext cx="247320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NSULENTI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4680" y="4954680"/>
            <a:ext cx="2473200" cy="109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VORATORI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caricati dell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PREVENZI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CEN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97360" y="4954680"/>
            <a:ext cx="2473200" cy="109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VORATORI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caricati del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PRONTO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SOCCOR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955960" y="3666960"/>
            <a:ext cx="536400" cy="9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8960" y="4495680"/>
            <a:ext cx="661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752480" y="4502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032440" y="4387680"/>
            <a:ext cx="22320" cy="54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1880" y="45021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029200" y="2298240"/>
            <a:ext cx="0" cy="75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5029200" y="2336760"/>
            <a:ext cx="0" cy="184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828800" y="25081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16200" y="2838600"/>
            <a:ext cx="4863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2368440"/>
            <a:ext cx="0" cy="692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97760" y="4973760"/>
            <a:ext cx="2473200" cy="84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VORATORI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incaricati p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L’EMERGEN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ERVIZIO DI PREVENZIONE E PROTE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9880" y="2133360"/>
            <a:ext cx="8494560" cy="380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DATORE DI LAVORO ORGANIZZA SERVIZI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IRET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TERN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STERN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ERVIZIO INTERN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0800" y="1485720"/>
            <a:ext cx="8742240" cy="43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L DATORE DESIGNA ADDETTI E RESPONSABI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 NUMERO SUFFICIEN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TATI  DELLE NECESSARIE ATTITUDINI E CAPACITA'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 MEZZI E TEMPO ADEGUAT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CONSULTA  RAPPRESENTANTE LAVORATORI PRIMA DELLE DESIGN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VIA ALL'ISPETTORATO LAVORO E USL IL CURRICULUM PROFESSIONALE DEL RESPONSABIL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ERVIZIO DI PREVENZIONE E PROTE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38320" y="2128680"/>
            <a:ext cx="2828880" cy="911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Responsabile del serviz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capacità adegua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4280" y="3576600"/>
            <a:ext cx="2829240" cy="637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ddetti al serviz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(capacità necessari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29280" y="259092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29200" y="2057400"/>
            <a:ext cx="4648320" cy="3743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noscenze in materia di sicurezza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ttitudini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Esperienza adeguata all'azienda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ompetenze specifiche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4229280" y="388620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24360" y="5129280"/>
            <a:ext cx="3381480" cy="63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isporre di mezzi e di 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25880" y="1449360"/>
            <a:ext cx="4416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QUISITI DEL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54080" y="103032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87520" y="34740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PITI S. P. &amp; 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601280" y="1733400"/>
            <a:ext cx="7466040" cy="40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VIDUARE I FATTORI DI RISCH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TARE  I  RISCH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DIVIDUARE MISURE PER SICUREZZA E SALUBRITA' AMBIENTI DI LAVOR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ABORARE MISURE DI PREVENZIONE E  PROTEZIONE SISTEMI DI CONTROLL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01280" y="32832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PITI S. P. &amp; 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78000" y="1638360"/>
            <a:ext cx="815184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ABORARE PROCEDURE DI SICUREZZA PER TUTTE LE ATTIVITA' AZIENDAL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PORRE PROGRAMMI DI INFORMAZIONE E FORMAZIONE LAVORATOR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ECIPARE ALLA RIUNIONE ANNUALE DI PREVENZIONE E PROTEZI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TARE DUE VOLTE ALL'ANNO GLI AMBIENTI DI LAVORO CON MEDICO COMPET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0280" y="32832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PITI S. P. &amp; 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8933040" cy="433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RNIRE A TUTTI I LAVORATORI INFORMAZIONI SU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CHI PRESENTI IN TUTTA L'AZIEND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DI PREVENZIONE ADOTT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CHI SPECIFICI DELLE MANSIONI ASSEGN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RMATIVE E DISPOSIZIONI DI SICUREZZA AZIENDAL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COLI CONNESSI A SOSTANZE UTILIZZAT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CEDURE DI EMERGENZA PER: PRONTO SOCCORSO, ANTINCENDIO, SFOLLAMENT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154080" y="992160"/>
            <a:ext cx="1253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 e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601280" y="38556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PITI S. P. &amp; 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1638360"/>
            <a:ext cx="815184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LABORARE CON MEDICO COMPETENTE DOCUMENTO VALUTAZIONE RISCHI AVENDO CONSULTATO IL RAPPRESENTANTE DEI LAVORATOR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DISPORRE CON DATORE DI LAVORO E MEDICO COMPETENTE MISURE PER TUTELA SALUTE E INTEGRITA'  PSICO-FISICA DEI LAVORATOR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PETTARE IL SEGRETO IN ORDINE A PROCESSI LAVORATIVI DI CUI SI VIENE A CONOSCENZ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ESPONSABILITA' S. P. &amp; P.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01320" y="2057400"/>
            <a:ext cx="8209080" cy="25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SSUNA SPECIFICA  SANZIONE  PENALE  PER RESPONSABILE  E  ADDETTI  AL  SERVIZI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PONDE  DIRETTAMENTE  AL  DATORE  DI LAVORO  DELLE  ATTRIBUZIONI/COMPETENZE ASSEGN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a "Rivoluzione Copernicana"</a:t>
            </a:r>
            <a:br>
              <a:rPr sz="2400"/>
            </a:b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nella preven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06400" y="1563840"/>
            <a:ext cx="293076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ALLA PREVENZIONE TECNOLO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69200" y="1525680"/>
            <a:ext cx="293040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D UN SISTEMA DI SICUREZZA GLOB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048280" y="1905120"/>
            <a:ext cx="952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3320" y="2446200"/>
            <a:ext cx="52354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ook Antiqua"/>
              </a:rPr>
              <a:t>" L'uomo, non la macchina, al centro della nuova organizzazione della sicurezza in azienda ..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163600" y="4021200"/>
            <a:ext cx="293076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AFFERMAZI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EL PRINCIPIO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DI AUTOTUT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11680" y="4002120"/>
            <a:ext cx="2930760" cy="91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L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VENZION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OGGET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83000" y="5202360"/>
            <a:ext cx="5692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"... ciascun lavoratore deve prendersi cura della propria sicurezza .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9880" y="1582560"/>
            <a:ext cx="568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54000" y="3963960"/>
            <a:ext cx="56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19928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OBBLIGHI A CARICO DEL DATORE DI LAVOR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01280" y="1504800"/>
            <a:ext cx="7618680" cy="448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RNIRE  AL  SERVIZIO  INFORMAZIONI  SU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TURA DEI RISCH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GANIZZAZIONE DEL LAVOR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MPIANTI E  PROCESSI  PRODUTTIV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GRAMMAZIONE ED ATTUAZIONE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P&amp;P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TUNI  E  MALATTIE  PROFESSIONAL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SCRIZIONI  ORGANI  DI  VIGILANZ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IUNIONE  PERIODIC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6560" y="121932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ARTECIPANTI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ATORE (</a:t>
            </a: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O SUO RAPPRESENTANTE)</a:t>
            </a:r>
            <a:br>
              <a:rPr sz="20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ESPONSABILE S. P. &amp; P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MEDICO COMPETENT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RAPPRESENTANTE DEI LAVORATOR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SAME CONGIUNTO DI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SITO VALUTAZIONE DEI RISCH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DI PREVEN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DONEITA' D.P.I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71760" indent="-223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OGRAMMI DI INFORMAZIONE E 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MA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RIUNIONE  PERIODIC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1428840"/>
            <a:ext cx="8399520" cy="465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AZIENDE &gt; 15 DIPENDENTI: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FREQUENZA  ANNUAL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CONVOCATA DAL DATORE, ANCHE TRAMITE IL S. P. &amp; P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Book Antiqua"/>
              </a:rPr>
              <a:t>RIPETUTA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PER SIGNIFICATIVE VARIAZIONI CONDIZIONI  DI ESPOSIZIONE O INTRODUZIONE DI NUOVE TECNOLOGI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AZIEND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200" spc="-1" strike="noStrike">
                <a:solidFill>
                  <a:srgbClr val="000000"/>
                </a:solidFill>
                <a:latin typeface="Book Antiqua"/>
              </a:rPr>
              <a:t> 15 DIPENDENTI:</a:t>
            </a:r>
            <a:endParaRPr b="1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Book Antiqua"/>
              </a:rPr>
              <a:t>SU RICHIESTA</a:t>
            </a: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 RAPPRESENTANTE LAVORATORI IN CASO DI SIGNIFICATIVE VARIAZIONI CONDIZIONI DI ESPOSIZIONE O INTRODUZIONE DI NUOVE TECNOLOGIE 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71080"/>
            <a:ext cx="769464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evenzione incendi, evacuazione dei lavoratori, pronto soccors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58560" y="1689120"/>
            <a:ext cx="69138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Il datore di lavoro, i dirigenti e preposti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Adottano le misure necessarie adeguate a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atur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ttività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mensio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ll'azienda / unità produttiv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1523880"/>
            <a:ext cx="1387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 (5.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5480" y="27108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evenzione incendi, evacuazione dei lavoratori, pronto soccors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15720" y="1943280"/>
            <a:ext cx="6913800" cy="4410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Il datore di lavoro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Organizza i rapporti con i servizi pubblici competent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esigna i lavoratori incaricat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forma i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7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271080"/>
            <a:ext cx="754236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Prevenzione incendi, evacuazione dei lavoratori, pronto soccors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316160" y="1553760"/>
            <a:ext cx="7694640" cy="4924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l datore di lavoro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ogramma gli interventi, fornisce le istruzioni e adotta i provvedimenti per l'abbandono del posto di lavoro in caso di percolo grave ed immediat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Prende i necessari provvedimenti affinché qualsiasi lavoratore possa prevedere le misure adeguate per evitare un pericolo grave ed immediat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In caso di persistenza di un pericolo grave ed immediato non può chiedere di riprendere l'attività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95280"/>
            <a:ext cx="1254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ORVEGLIANZA SANITARI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810800" y="1676520"/>
            <a:ext cx="7256520" cy="41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ffettuata dal medico competen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alutazione dell'idoneità alla mansione specifica mediante accertamenti preventiv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ntrollo dello stato di salute e giudizio di idoneità mediante accertamenti periodic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3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6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medico competen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16120" y="1352160"/>
            <a:ext cx="7161120" cy="455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' nominato dal datore di lavoro e deve essere in possesso di uno dei seguenti titoli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pecializza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ocenza o libera docenz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utorizzazi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volge la propria opera come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pendente da una struttura esterna convenzionata o pubblic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libero professionista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dipendente del datore di lavor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6" name=""/>
          <p:cNvSpPr/>
          <p:nvPr/>
        </p:nvSpPr>
        <p:spPr>
          <a:xfrm>
            <a:off x="154080" y="992160"/>
            <a:ext cx="1253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4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7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medico competen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001960" y="2076120"/>
            <a:ext cx="7370640" cy="397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Collabora alla predisposizione dell'attuazione delle misure di tutela della salute e dell'integrità psico-fisica dei lavoratori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ffettua gli accertamenti sanita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sprime giudizi di idoneità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medico competen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35200" y="1788840"/>
            <a:ext cx="7370640" cy="397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stituisce ed aggiorna le cartelle sanitarie e di rischi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rnisce indicazioni ai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munica ai rappresentanti dei lavoratori i risultati degli accertamenti clinici e strumental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Visita gli ambienti di lavoro almeno 2 volte all'ann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7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ecchio e nuovo approccio a confront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5760" y="1162080"/>
            <a:ext cx="43243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venzione oggettiva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Netta distinzione tra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spetti tecnic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Preparazione lavorator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Aspetti legal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Vecchia concezione: sufficiente il rispetto delle norme e l’adozione di particolari soluzioni tecniche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Prevenzione: rigido adempimento di norme e procedure tecniche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583240" y="1162080"/>
            <a:ext cx="411336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Prevenzione soggettiva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Interazione tra: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17040" indent="-2055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mbienti e struttur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17040" indent="-2055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cess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lvl="1" marL="617040" indent="-20556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tteggiamenti e motivazioni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Nuova concezione: ricerca delle ottimali condizioni di lavoro nel campo progettuale organizzativo e gestionale della prevenzione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57040" indent="-2570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Prevenzione: ottenimento e mantenimento di un adeguato rapporto tra quelle che sono le possibilità di ciascun lavoratore e le condizioni di esecuzione del lavoro a cui è destinato, sia per preparazione che per situaazione ambientale e mezzi tecnici disponibili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2139840" y="835200"/>
            <a:ext cx="5439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Vecchio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               Nuo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medico competen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99800" y="1542600"/>
            <a:ext cx="8310600" cy="397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artecipa alla programmazione del controllo dell'esposizione dei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ffettua  accertamenti sanitari, a richiesta del lavoratore, in relazione a specifici rischi professional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abora alla predisposizione del servizio di pronto soccor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ollabora alla formazione ed informazione dei lavoratori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rappresentante per la sicurezz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36440" y="1485720"/>
            <a:ext cx="8445240" cy="4638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' eletto / designato dalle rappresentanze sindacali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n sede di contrattazione collettiva sono definiti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umer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odalità di designazione / elezion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mpo di lavoro retribuito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trumenti operativ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ook Antiqua"/>
              </a:rPr>
              <a:t>Numero minimo per aziende / unità produttive oltre 1000 dipendenti = 6 rappresentant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"/>
          <p:cNvSpPr/>
          <p:nvPr/>
        </p:nvSpPr>
        <p:spPr>
          <a:xfrm>
            <a:off x="154080" y="99216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8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rappresentante per la sicurezz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353600" y="1428840"/>
            <a:ext cx="8107560" cy="437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' consultato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ella valutazione dei rischi, individuazione e realizzazione di adeguate misure di prevenzione, e nella designazione dell’addetto al servizio di prevenzione e protezione e del personale del pronto soccorso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154080" y="103032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rappresentante per la sicurezza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449000" y="1542960"/>
            <a:ext cx="7123320" cy="385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Gli saranno fornite informazioni sui rischi e misure di prevenzione adottate;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ceverà la formazione che gli organi bilaterali andranno a definire e partecipa alle riunioni periodiche indette dal servizio di prevenzione e protezione;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uò accedere ai luoghi di lavoro e formulare proposte su rischi esistenti al fine di migliorare l’ambiente di lavoro.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4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19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decreto legislativo 626 / 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14840" y="2340000"/>
            <a:ext cx="3765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NFOR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RM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6880" y="271080"/>
            <a:ext cx="716148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nformazione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680840" y="1580760"/>
            <a:ext cx="7561080" cy="458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Fornita dal datore di lavoro a ciascun lavoratore su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chi per la sicurezza e salute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isure di prevenzione e protezione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chi specific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rmative e disposizioni aziendali sulla sicurezz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ericoli connessi all'uso di sostanze e preparati pericolos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nformazione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49640" y="1771560"/>
            <a:ext cx="6216480" cy="40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 Antiqua"/>
              </a:rPr>
              <a:t>Attivazione di procedure di: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Pronto soccors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Lotta antincendi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vacuazione dei lavoratori</a:t>
            </a:r>
            <a:endParaRPr b="1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nformazione dei lavorator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396800" y="1638360"/>
            <a:ext cx="7894440" cy="41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esponsabile del servizio di prevenzione e protezi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Medico competen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ddetti al pronto soccors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Prevenzione incend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acuazione dei lavorator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orma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931680" y="1695240"/>
            <a:ext cx="8148600" cy="406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' assicurata dal datore di lavoro, dirigenti e preposti  in occasione di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Assunzio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rasferimento o cambiamento di mansion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troduzione di nuove attrezzature, tecnologie, sostanze o preparati pericolos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orma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17680" y="1466640"/>
            <a:ext cx="7896240" cy="435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ve essere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sufficiente e adeguata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eriodicamente ripetuta in relazione a: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Evoluzione dei rischi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Insorgenza di nuovi risch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Deve avvenire, in collaborazione con gli organismi paritetici, durante l'orario di lavoro e senza l'aggravio di oneri economic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e si realizza praticament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839680" y="1771560"/>
            <a:ext cx="6227640" cy="40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Attraverso gli istituti giuridici della 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FORMAZION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FORMAZION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PARTECIPAZIONE ATTIVA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CONSULTAZIONE</a:t>
            </a:r>
            <a:endParaRPr b="1" lang="en-US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orma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8128080" cy="404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Il rappresentante per la sicurezza deve essere formato su: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Normativa in materia di sicurezza e salu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Rischi specifici nell'ambito di rappresentanz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ecniche di controllo e prevenzione dei rischi</a:t>
            </a:r>
            <a:endParaRPr b="1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"/>
          <p:cNvSpPr/>
          <p:nvPr/>
        </p:nvSpPr>
        <p:spPr>
          <a:xfrm>
            <a:off x="173160" y="1049400"/>
            <a:ext cx="1253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Art. 2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71600" y="271080"/>
            <a:ext cx="65088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Come affrontare gli aspetti relativi alla formazione e all’informazion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495360" y="1695600"/>
          <a:ext cx="8569440" cy="41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695600"/>
                    <a:ext cx="8569440" cy="41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Il decreto legislativo 626/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19160" y="2292480"/>
            <a:ext cx="432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ISTE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ff"/>
                </a:solidFill>
                <a:latin typeface="Times New Roman"/>
              </a:rPr>
              <a:t>SANZIONATO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Sistema sanzionatorio:</a:t>
            </a:r>
            <a:br>
              <a:rPr sz="2400"/>
            </a:b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schema riassuntivo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247400" y="1887480"/>
            <a:ext cx="841212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PROFESSIONE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ARRESTO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AMMENDA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      VEDI ART.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(max)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Book Antiqua"/>
              </a:rPr>
              <a:t>(max)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Datore di lavoro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6 mes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8 milion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89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(e dirigente)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eposto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2 mes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3 milion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90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Commerciant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6 mes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60 milion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91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Install./montator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1 mes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2 milion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91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Medico competent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2 mes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6 milioni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92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Lavorator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1 mese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1 milione 200 mila 93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esponsabile SP&amp;P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nessuna sanzione previst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2" name=""/>
          <p:cNvSpPr/>
          <p:nvPr/>
        </p:nvSpPr>
        <p:spPr>
          <a:xfrm>
            <a:off x="1415880" y="2533680"/>
            <a:ext cx="829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71600" y="271080"/>
            <a:ext cx="650880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ff"/>
                </a:solidFill>
                <a:latin typeface="Times New Roman"/>
              </a:rPr>
              <a:t>Fasi procedimentali previste dal Decreto Legislativo 758/94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495360" y="1333440"/>
          <a:ext cx="85694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333440"/>
                    <a:ext cx="85694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150840" y="5692680"/>
            <a:ext cx="9672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Reati non compresi nell’allegato 1 D.Lgs.Vo 758/94: comunicazione al P.M. (art.347 C.P.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9280" y="271080"/>
            <a:ext cx="7161120" cy="795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Linee strategiche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44720" y="1028880"/>
            <a:ext cx="7161120" cy="458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Prevenzione organizzat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 Antiqua"/>
              </a:rPr>
              <a:t>dal bass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e non più impostata dall'alto</a:t>
            </a:r>
            <a:br>
              <a:rPr sz="2400"/>
            </a:b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ciò significa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per contro</a:t>
            </a: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marL="2858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1878120" y="3297240"/>
            <a:ext cx="312084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OLLABORATORE DELL'IMPRENDI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49800" y="3297240"/>
            <a:ext cx="312120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MAGGIORE LIBERTA' ED AUTONOM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954680"/>
            <a:ext cx="2473560" cy="637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FERREO SISTEMA PUN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24600" y="5276880"/>
            <a:ext cx="1085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30840" y="4973760"/>
            <a:ext cx="2320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" CHI SBAGLIA, PAGA 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3920" y="266688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S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2160" y="268128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IMPRENDI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0000" y="271080"/>
            <a:ext cx="6208560" cy="538200"/>
          </a:xfrm>
          <a:prstGeom prst="rect">
            <a:avLst/>
          </a:prstGeom>
          <a:noFill/>
          <a:ln w="0">
            <a:noFill/>
          </a:ln>
        </p:spPr>
        <p:txBody>
          <a:bodyPr lIns="61920" rIns="61920" tIns="31680" bIns="316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20640"/>
                <a:tab algn="l" pos="1241280"/>
                <a:tab algn="l" pos="1862280"/>
                <a:tab algn="l" pos="2482920"/>
                <a:tab algn="l" pos="3103560"/>
                <a:tab algn="l" pos="3724200"/>
                <a:tab algn="l" pos="4344840"/>
                <a:tab algn="l" pos="4965840"/>
                <a:tab algn="l" pos="5586480"/>
                <a:tab algn="l" pos="6207120"/>
                <a:tab algn="l" pos="6827760"/>
                <a:tab algn="l" pos="7448400"/>
                <a:tab algn="l" pos="8069400"/>
                <a:tab algn="l" pos="8690040"/>
                <a:tab algn="l" pos="9310680"/>
                <a:tab algn="l" pos="9931320"/>
                <a:tab algn="l" pos="1055196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DEFINIZIONI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3640" y="895320"/>
            <a:ext cx="5602320" cy="50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480" rIns="8748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prietà o qualità intrinseca di una determinata entità (p. es. materiali o attrezzature di lavoro, metodi e pratiche di lavoro) avente il potenziale di causare dan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babilità che sia raggiunto il livello potenziale di danno nelle condizioni di impiego e/o esposizione, nonchè dimensioni possibili del dan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Procedimento per la valutazione dell’entità del rischio per la sicurezza e la salute dei lavoratori, nello espletamento delle loro mansioni, derivante dalle circostanze del verificarsi di un pericolo sul luogo di lav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9640" y="1933560"/>
            <a:ext cx="10900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Pericol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92440" y="3527280"/>
            <a:ext cx="977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ischi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1720" y="5043600"/>
            <a:ext cx="190548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Valutazione de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 Antiqua"/>
              </a:rPr>
              <a:t>risch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81280" y="1969920"/>
            <a:ext cx="809640" cy="276480"/>
          </a:xfrm>
          <a:prstGeom prst="rightArrow">
            <a:avLst>
              <a:gd name="adj1" fmla="val 50000"/>
              <a:gd name="adj2" fmla="val 14643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16200" y="5145120"/>
            <a:ext cx="809640" cy="276120"/>
          </a:xfrm>
          <a:prstGeom prst="rightArrow">
            <a:avLst>
              <a:gd name="adj1" fmla="val 50000"/>
              <a:gd name="adj2" fmla="val 1466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1680" y="3579840"/>
            <a:ext cx="809640" cy="276120"/>
          </a:xfrm>
          <a:prstGeom prst="rightArrow">
            <a:avLst>
              <a:gd name="adj1" fmla="val 50000"/>
              <a:gd name="adj2" fmla="val 14662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5T10:05:14Z</dcterms:created>
  <dc:creator>Nicchi</dc:creator>
  <dc:description/>
  <dc:language>en-US</dc:language>
  <cp:lastModifiedBy>ELIS</cp:lastModifiedBy>
  <cp:lastPrinted>1996-04-18T11:40:46Z</cp:lastPrinted>
  <dcterms:modified xsi:type="dcterms:W3CDTF">1998-01-22T17:45:10Z</dcterms:modified>
  <cp:revision>19</cp:revision>
  <dc:subject/>
  <dc:title>Il decreto legislativo 626/94</dc:title>
</cp:coreProperties>
</file>