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45000" y="6496200"/>
            <a:ext cx="54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esistenza al fuoco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ESISTENZA E REAZIONE AL FUOC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carico d’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8960" y="1671480"/>
            <a:ext cx="7729560" cy="517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è un indice della quantita di calore sviluppato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 ipotetico incendio in quell’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 = carico d’incen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= peso del generico tra gli n combustibili presenti nel locale [K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= potere calorifico (superiore) del generico fra gli n combustibili di peso g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[Kcal/K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= Superficie orizzontale, in m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del locale consid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4400 = potere calorifico del leg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noscenza di “q” è importante per la determinazione della esistenza al fu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arico d’incendio è espresso dalla quantità equivalente di legno per 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che si ottiene dividendo per 4400 il numero di calorie per unità di superficie orizzontale del lo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1735200" y="1798560"/>
                <a:ext cx="14191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i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00</m:t>
                        </m:r>
                        <m:r>
                          <m:t xml:space="preserve">∗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=50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 Kg car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7000 Kcal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 Kg legn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4000 Kcal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 Kg propa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94 MJ/Kg x 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0 Kg PV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17 MJ/Kg x 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*700+100*400+200*22372+1000*4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400*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93880" y="4699080"/>
            <a:ext cx="45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59480" y="4524480"/>
            <a:ext cx="64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arico d’incendio e calcolo del carico d’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04920" y="2073240"/>
          <a:ext cx="7612200" cy="43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073240"/>
                    <a:ext cx="761220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otere calorifico medio /massi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219320" y="1981080"/>
          <a:ext cx="772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772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esistenza al fuoco 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332640" indent="-33264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appresenta il comportamento al fuoco degli elementi che hanno funzioni strutturali nelle costruzioni degli edifici, siano esse funzioni portanti o funzioni separ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resistenza al fuoco rappresenta l’intervallo di tempo, espresso in minuti, di esposizione di un elemento strutturale ad un incendio, durante il quale detto elemento mantiene i requisiti progettuali di stabilità, tenuta ai prodotti della combustione e di coibentazione term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uindi la resistenza al fuoco è l’attitudine di un elemento da costruzione a conservare per un intervallo di tempo definito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la stabilità                 R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la tenuta                    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- l’isolamento termico 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esistenza al fuoco 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828800"/>
            <a:ext cx="81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funzione degli elementi strutturali (materiali e spessori), questi ultimi vengono classificati da un numero che esprime i minuti per i quali conservano le caratteristiche R, E, I come di seguito illustra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066680" y="3200400"/>
          <a:ext cx="6934320" cy="80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200400"/>
                    <a:ext cx="693432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533520" y="4343400"/>
            <a:ext cx="8076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resistenza al fuoco si calcola moltiplicando il carico di incendio per un coefficiente C che tiene conto di svariati fattori connessi alla effettiva ubicazione dell’ambiente da proteggere. (vedi circolare n° 91/61 del M.I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6T11:46:16Z</dcterms:created>
  <dc:creator>Marco Nicchi</dc:creator>
  <dc:description/>
  <dc:language>en-US</dc:language>
  <cp:lastModifiedBy>ELIS</cp:lastModifiedBy>
  <cp:lastPrinted>1996-07-19T17:00:00Z</cp:lastPrinted>
  <dcterms:modified xsi:type="dcterms:W3CDTF">1998-01-23T17:57:54Z</dcterms:modified>
  <cp:revision>69</cp:revision>
  <dc:subject/>
  <dc:title>Il comportamento umano in caso di emergenza</dc:title>
</cp:coreProperties>
</file>