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744280" y="6496200"/>
            <a:ext cx="56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revenzione incendi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prevenzione incend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protezione passiva: 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e misure di attuazione 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iere ant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olamento dell’edif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stanze di sicurezza esterne ed in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499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uri tagliafuoco, schermi solidi, schermi idr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trutture aventi caratteristiche di resistenza al fuoco commisurate ai carichi d’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ateriali classificati per la reazione al fuo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di ventilazione e rimozione dei prodotti di combu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a di vie d’uscita commisurate al massimo affollamento ipotizzabile dell’ambiente di lavoro e alla pericolosità delle lavor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ttimizzazione del lay-out dei reparti di lavorazione in funzione dei rischi d’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773460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Minimizzare gli effetti sull’uo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949400" y="2692440"/>
            <a:ext cx="5854680" cy="2324160"/>
            <a:chOff x="1949400" y="2692440"/>
            <a:chExt cx="5854680" cy="2324160"/>
          </a:xfrm>
        </p:grpSpPr>
        <p:sp>
          <p:nvSpPr>
            <p:cNvPr id="104" name=""/>
            <p:cNvSpPr/>
            <p:nvPr/>
          </p:nvSpPr>
          <p:spPr>
            <a:xfrm>
              <a:off x="4482360" y="2832120"/>
              <a:ext cx="1185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evenzio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84520" y="3479760"/>
              <a:ext cx="16254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deguate strutturaz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024600" y="3492360"/>
              <a:ext cx="1396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enimento risch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12840" y="4356000"/>
              <a:ext cx="12448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mpianti a nor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30080" y="4508640"/>
              <a:ext cx="1310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nutenzion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27640" y="4432320"/>
              <a:ext cx="15494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Vigilanza aziend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273560" y="2692440"/>
              <a:ext cx="158760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11520" y="3479760"/>
              <a:ext cx="158760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75280" y="3505320"/>
              <a:ext cx="158760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49400" y="4356000"/>
              <a:ext cx="158760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84640" y="4419720"/>
              <a:ext cx="158760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216480" y="4419720"/>
              <a:ext cx="158760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79960" y="330192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260440" y="337824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66920" y="3384720"/>
              <a:ext cx="5499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85000" y="3390840"/>
              <a:ext cx="0" cy="97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454560" y="3378240"/>
              <a:ext cx="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70600" y="3390840"/>
              <a:ext cx="0" cy="8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124080" y="2070000"/>
            <a:ext cx="40906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duce la possibilità di accadimento dell’ev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628668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Minimizzare gli effetti sull’uo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8400" y="1523880"/>
            <a:ext cx="29170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duce l’entità delle conseguen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76320" y="1905120"/>
          <a:ext cx="883908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905120"/>
                    <a:ext cx="883908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10080" y="350532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prevenzione incend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295280"/>
            <a:ext cx="3200400" cy="106704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iettivi d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zione antincen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2743200"/>
            <a:ext cx="2819520" cy="76212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azione del liv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 rischio accetta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562720" y="5105520"/>
            <a:ext cx="2209680" cy="9144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zione second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5105520"/>
            <a:ext cx="2209680" cy="9144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zione prim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3886200"/>
            <a:ext cx="2286000" cy="60948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utela della incolumit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le pers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638680" y="3886200"/>
            <a:ext cx="2438640" cy="60948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ervazione de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ni materia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2362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71800" y="3505320"/>
            <a:ext cx="38088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4495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Modalità di azion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minuire la probabilità che possa insorgere l’incendio (F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durre, qualora l’incendio si verifichi, i danni che esso produce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359160" y="2444760"/>
            <a:ext cx="977760" cy="444600"/>
          </a:xfrm>
          <a:prstGeom prst="rightArrow">
            <a:avLst>
              <a:gd name="adj1" fmla="val 50000"/>
              <a:gd name="adj2" fmla="val 10997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05320" y="2486160"/>
            <a:ext cx="1755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VE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121280"/>
            <a:ext cx="977760" cy="444240"/>
          </a:xfrm>
          <a:prstGeom prst="rightArrow">
            <a:avLst>
              <a:gd name="adj1" fmla="val 50000"/>
              <a:gd name="adj2" fmla="val 110059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57240" y="4238640"/>
            <a:ext cx="1591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Rappresentazione grafica del risch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=F x M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=Risch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=Frequenz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=Magnitu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43828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6324480"/>
            <a:ext cx="495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2514600"/>
            <a:ext cx="609480" cy="38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-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-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-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3244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         2          3         4         5         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24480" y="6019920"/>
            <a:ext cx="281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itudo di dann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nità arbitra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2133360" y="-610200"/>
            <a:ext cx="7009200" cy="65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819160" y="-838800"/>
            <a:ext cx="7009200" cy="655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18960" y="2576520"/>
            <a:ext cx="4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57040" y="2347920"/>
            <a:ext cx="7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&gt;R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" name=""/>
          <p:cNvCxnSpPr>
            <a:stCxn id="68" idx="0"/>
            <a:endCxn id="68" idx="1"/>
          </p:cNvCxnSpPr>
          <p:nvPr/>
        </p:nvCxnSpPr>
        <p:spPr>
          <a:xfrm>
            <a:off x="2819160" y="243792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72" name=""/>
          <p:cNvSpPr/>
          <p:nvPr/>
        </p:nvSpPr>
        <p:spPr>
          <a:xfrm flipH="1">
            <a:off x="2819520" y="4572000"/>
            <a:ext cx="8380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2286000" y="4572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65760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8600" y="42670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te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1055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ti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656520" y="579132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even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protezione ant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447920"/>
            <a:ext cx="2362320" cy="99036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VEN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CEND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048120"/>
            <a:ext cx="2209680" cy="685800"/>
          </a:xfrm>
          <a:prstGeom prst="flowChart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eve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riamente det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3124080"/>
            <a:ext cx="2590920" cy="53352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5334120"/>
            <a:ext cx="2895480" cy="609480"/>
          </a:xfrm>
          <a:prstGeom prst="flowChartTerminator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4952880"/>
            <a:ext cx="3352680" cy="1371600"/>
          </a:xfrm>
          <a:prstGeom prst="irregularSeal1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te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ss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243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2666880"/>
            <a:ext cx="32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26668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3657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411480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14600" y="4114800"/>
            <a:ext cx="0" cy="1143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934320" y="411480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protezione ant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o e contenimento della propagazione dell’incen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zione delle energie prodotte dall’incendio nello spazio e nel t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protezione attiva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durre ai minimi termini i danni prodotti dagli incendi per mezzo della loro rivelazione efficace e della estinzione rapida nella prima fase del loro svilup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e misure di attua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in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 idrica ant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ianti antincendio a funzionamento automa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i automatici di evacuazione di fumo e c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i di rilevazione e segnalazione automatica d’incen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zione e addestramento di squadre antincendio aziend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protezione passiva:</a:t>
            </a:r>
            <a:br>
              <a:rPr sz="3200"/>
            </a:b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Obiettiv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rantire l’incolumità dei lavo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re gli effetti nocivi dei prodotti della combustione sui lavo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ere i danni alle strutture, agli impianti, alle materie prime, ai prodotti finiti e altri beni aziend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6T11:46:16Z</dcterms:created>
  <dc:creator>Marco Nicchi</dc:creator>
  <dc:description/>
  <dc:language>en-US</dc:language>
  <cp:lastModifiedBy>ELIS</cp:lastModifiedBy>
  <cp:lastPrinted>1996-07-19T17:00:00Z</cp:lastPrinted>
  <dcterms:modified xsi:type="dcterms:W3CDTF">1998-01-23T17:59:54Z</dcterms:modified>
  <cp:revision>70</cp:revision>
  <dc:subject/>
  <dc:title>Il comportamento umano in caso di emergenza</dc:title>
</cp:coreProperties>
</file>