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525000"/>
  <p:notesSz cx="97520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582912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5202720"/>
            <a:ext cx="582912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29960" y="233028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520272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29960" y="520272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187668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14040" y="2330280"/>
            <a:ext cx="187668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84680" y="2330280"/>
            <a:ext cx="187668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5202720"/>
            <a:ext cx="187668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14040" y="5202720"/>
            <a:ext cx="187668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684680" y="5202720"/>
            <a:ext cx="187668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330280"/>
            <a:ext cx="5829120" cy="549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5829120" cy="54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2844360" cy="54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29960" y="2330280"/>
            <a:ext cx="2844360" cy="54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379440"/>
            <a:ext cx="5829120" cy="32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29960" y="2330280"/>
            <a:ext cx="2844360" cy="54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520272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2844360" cy="54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29960" y="233028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29960" y="520272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33028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29960" y="2330280"/>
            <a:ext cx="284436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5202720"/>
            <a:ext cx="5829120" cy="262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330280"/>
            <a:ext cx="5829120" cy="54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799"/>
              </a:spcBef>
              <a:buClr>
                <a:srgbClr val="0000ff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"/>
          <p:cNvSpPr/>
          <p:nvPr/>
        </p:nvSpPr>
        <p:spPr>
          <a:xfrm>
            <a:off x="3429000" y="8893080"/>
            <a:ext cx="342900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europa" descr=""/>
          <p:cNvPicPr/>
          <p:nvPr/>
        </p:nvPicPr>
        <p:blipFill>
          <a:blip r:embed="rId2"/>
          <a:stretch/>
        </p:blipFill>
        <p:spPr>
          <a:xfrm>
            <a:off x="5410080" y="304920"/>
            <a:ext cx="1219320" cy="820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797200" y="899172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6/94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90720" y="3924000"/>
            <a:ext cx="487656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formazione sul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DECRETO LEGISLATIVO 626/9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Book Antiqua"/>
              </a:rPr>
              <a:t>SICUREZZA E SALUTE DEI LAVORATORI NEI LUOGHI DI LAVORO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340240" y="2467080"/>
            <a:ext cx="1130400" cy="46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379440"/>
            <a:ext cx="5829120" cy="70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ff"/>
                </a:solidFill>
                <a:latin typeface="Book Antiqua"/>
              </a:rPr>
              <a:t>D.Lgs. n.626/94: 98 articoli</a:t>
            </a:r>
            <a:br>
              <a:rPr sz="2400"/>
            </a:br>
            <a:r>
              <a:rPr b="0" i="1" lang="it-IT" sz="2400" spc="-1" strike="noStrike">
                <a:solidFill>
                  <a:srgbClr val="0000ff"/>
                </a:solidFill>
                <a:latin typeface="Book Antiqua"/>
              </a:rPr>
              <a:t>e 13 allegati</a:t>
            </a:r>
            <a:endParaRPr b="0" i="1" lang="en-US" sz="2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1455840"/>
            <a:ext cx="546552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TITOLO I - SICUREZZA E SALUTE DURANTE IL LAVO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I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Disposizioni gener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II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Servizio di prevenzione e prote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III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Prevenzione incendi, pronto soccorso, ec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IV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Sorveglianza sanita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V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onsultazione e partecipazione dei lavor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VI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Informazione e formazione dei lavor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VII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Disposizioni concernenti la pubblica amministr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Capo VIII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Statistiche infortuni e malattie professi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42400" y="2573280"/>
            <a:ext cx="1136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89/391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40240" y="2467080"/>
            <a:ext cx="1130400" cy="46332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720" y="4398840"/>
            <a:ext cx="6531840" cy="41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I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- LUOGHI DI LAVORO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         89/654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II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- USO DELLE ATTREZZATURE DI LAVORO                89/655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IV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- USO DEI DP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        89/656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V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- MOVIMENTAZIONE MANUALE DEI CARICHI       90/269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VI  - USO DI ATTREZZATURE MUNITE DI VDT                90/270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VII - PROTEZIONE DA AGENTI CANCEROGENI             90/394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VIII - PROTEZIONE DA AGENTI BIOLOGIC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        90/679/C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IX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- SAN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TITOLO X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- DISPOSIZIONI TRANSITORIE E FI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ALLEGAT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- DA I A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8840" y="6991200"/>
            <a:ext cx="11304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8840" y="4371840"/>
            <a:ext cx="11304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8840" y="5245200"/>
            <a:ext cx="11304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8840" y="5721480"/>
            <a:ext cx="11304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8840" y="6118200"/>
            <a:ext cx="11304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8840" y="6518160"/>
            <a:ext cx="11304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568840" y="4768920"/>
            <a:ext cx="113040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8960" y="1187280"/>
            <a:ext cx="1206360" cy="5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92680" y="349200"/>
            <a:ext cx="12063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87560" y="349200"/>
            <a:ext cx="12063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21280" y="1187280"/>
            <a:ext cx="1206360" cy="5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54040" y="1949400"/>
            <a:ext cx="12067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25840" y="2025720"/>
            <a:ext cx="12067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49680" y="2635200"/>
            <a:ext cx="1282680" cy="82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54040" y="3854520"/>
            <a:ext cx="12067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25840" y="3930480"/>
            <a:ext cx="1206720" cy="5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01960" y="4768920"/>
            <a:ext cx="12063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01960" y="5911920"/>
            <a:ext cx="13590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7054920"/>
            <a:ext cx="257832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78280" y="7893000"/>
            <a:ext cx="12063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560" y="8273880"/>
            <a:ext cx="1587600" cy="5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02160" y="8273880"/>
            <a:ext cx="1587600" cy="59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40040" y="519120"/>
            <a:ext cx="3279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nstallator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Commercian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02080" y="1357200"/>
            <a:ext cx="3519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ontator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     Progettis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24160" y="2119320"/>
            <a:ext cx="4012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Lavoratori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        S.P. &amp;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7240" y="3186000"/>
            <a:ext cx="848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a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33520" y="3948120"/>
            <a:ext cx="11556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Medico compe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05320" y="3948120"/>
            <a:ext cx="1231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Squadre emergenz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05120" y="4862520"/>
            <a:ext cx="13082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Ipotesi di docu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05120" y="5929200"/>
            <a:ext cx="15368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onsultazione rappresenta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47920" y="7148520"/>
            <a:ext cx="2603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Documento valutazione dei rischi attuazione mi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57400" y="7986600"/>
            <a:ext cx="1231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Relazione sui risc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7720" y="8367840"/>
            <a:ext cx="1689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Individuazione misure Art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81640" y="8367840"/>
            <a:ext cx="1612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Programma attuazione mi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974960" y="3086280"/>
            <a:ext cx="1079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81080" y="2545920"/>
            <a:ext cx="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740040" y="3086280"/>
            <a:ext cx="135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105520" y="2622240"/>
            <a:ext cx="0" cy="46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25640" y="1949400"/>
            <a:ext cx="216000" cy="90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03400" y="2101680"/>
            <a:ext cx="393480" cy="749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30560" y="1111320"/>
            <a:ext cx="216000" cy="135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574800" y="1111320"/>
            <a:ext cx="469800" cy="1359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73360" y="4152960"/>
            <a:ext cx="29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971800" y="346068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879360" y="4229280"/>
            <a:ext cx="54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886200" y="346068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974600" y="3390840"/>
            <a:ext cx="85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9732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8640" y="3390840"/>
            <a:ext cx="113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3397320"/>
            <a:ext cx="0" cy="52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446400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7560" y="5143680"/>
            <a:ext cx="90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45403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07960" y="5219640"/>
            <a:ext cx="100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3473280"/>
            <a:ext cx="0" cy="1283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53784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80760" y="6005520"/>
            <a:ext cx="25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 Antiqua"/>
              </a:rPr>
              <a:t>Consultazione dei lavora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652140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6440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441080" y="7429680"/>
            <a:ext cx="92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743580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959360" y="742968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62720" y="743580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9-26T16:01:12Z</dcterms:created>
  <dc:creator>Responsabile</dc:creator>
  <dc:description/>
  <dc:language>en-US</dc:language>
  <cp:lastModifiedBy>ELIS</cp:lastModifiedBy>
  <cp:lastPrinted>1995-10-24T12:45:16Z</cp:lastPrinted>
  <dcterms:modified xsi:type="dcterms:W3CDTF">1998-01-21T18:55:02Z</dcterms:modified>
  <cp:revision>12</cp:revision>
  <dc:subject/>
  <dc:title>D.Lgs. n.626/94: 98 articoli e 13 allegati</dc:title>
</cp:coreProperties>
</file>