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47760" cy="839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743920" y="6496200"/>
            <a:ext cx="60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rischio da videoterminale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8195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L RISCHIO DA VIDEOTERMINALE</a:t>
            </a:r>
            <a:endParaRPr b="0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istanza errata dallo scherm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posizione troppo ravvicinata degli occhi allo schermo sollecita fortemente i muscoli oculari, per la messa a fuoco dell’immagine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tanto quanto piu’ vicina e prolungata è la permanenza davanti ad un videoterminale maggire sarà la sollecitazione  muscolare e di conseguenza i fastid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505320" y="3352680"/>
            <a:ext cx="2197080" cy="2743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572000" y="403848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2660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ondizioni ambientali sfavorevol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cuni fattori ambientali possono causare o aggravare disturbi a carico dell’apparato visivo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 esempio: l’inquinamento dell’aria interna al locale dovuta al cattivo funzionamento dell’impianto di condizionamento, presenza di fumatori, presenza di agenti chimici o fisici (eccesso di fotocopiatrici in ambienti poco areati, rivestimenti e/o arredi tossici, ecc.), secchezza dell’aria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4290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Rischi connessi alla postura 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 tratta di disturbi muscolo-scheletrici che provocano dolore piu’ o meno acuto, senso di peso, fastidi al collo , alla schiena, alle spalle ed alle ma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86200" y="2514600"/>
            <a:ext cx="1324080" cy="3962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029200" y="4419720"/>
            <a:ext cx="304920" cy="533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185000">
            <a:off x="4114440" y="3809880"/>
            <a:ext cx="990720" cy="19051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3276720"/>
            <a:ext cx="60984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185000">
            <a:off x="4265640" y="2056680"/>
            <a:ext cx="609480" cy="1219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e caus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cause dei disturbi prima citati possono essere molteplici e tra queste v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zioni di lavoro non idonee a causa della inadeguatezza degli elementi di arredo che non permettono una postura corre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manenza eccessiva davanti ad un videoterminale anche se in possesso di una postazione adeguata ed ergono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2120" y="3892680"/>
            <a:ext cx="2639880" cy="2352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880" y="38098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95280" y="449568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26320" y="3809880"/>
            <a:ext cx="1982880" cy="2475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629400" y="388620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238880" y="3886200"/>
            <a:ext cx="0" cy="1447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’affaticamento fisico e mental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tratta di disturbi che si possono determinare quando le capacità di una persona non sono adeguate rispetto al livello della richiesta lavorativa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OSSIER AMBIENTE-associazione ambiente e lavor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 Questi disturbi possono dar luogo a dolore di testa, irritabilità, ansia, insonnia e depress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1419120" cy="2667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388280" y="3657600"/>
            <a:ext cx="1149120" cy="24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33920" y="3352680"/>
            <a:ext cx="214452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e caus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che in questo caso molte sono le cause che possono dar luogo ai disturbi derivati da stre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nflitto uomo-macchin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Quando la macchina è difficile da usare, paura di perdere dati,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arico di lavo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troppo alto o troppo basso, monotonia e ripetitività, assenza di responsabilità o eccessiva responsa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apporti di lavor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conflittuali o inesist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ttori ambiental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quando l’ambiente di lavoro è angusto, rumoroso o disordinato,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62624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ondizioni ergonomiche ed ambiental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unto 1 dell’allegato VII del d.dlgs. 626/94 e successive modifiche ed interpretazioni, indica le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prescrizioni minime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per le attrezzature munite di videoterminale, ed in particolare per il sedile di lavoro, il piano di lavoro, la tastiera e lo scher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l sedile di lavor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sedile di lavoro deve essere stabile, permettere all’utilizzatore una certa libertà di movimento ed una posizione comoda e regolabile in altezza e inclinazione.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llegato VII del d.dlgs. 626/9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realizzare tutto ciò è opportuno che il sedile abb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basamento anti ribaltabile a 5 raz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tezza regol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cile accessibilità da seduti ai dispositivi di reg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chienale sufficientemente alto e regolabile tanto in altezza che in incli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deguato supporto lombare, imbottitura semirigida e rivestimento traspi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l piano di lavor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piano di lavoro deve avere una superficie poco riflettente, avere dimensioni sufficienti e permettere una disposizione flessibile dello schermo, della tastiera, dei documenti e dei materiali necessari.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’ necessario  uno spazio sufficiente che permetta ai lavoratori una posizione comoda. (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allegato VII del d.dlgs. 626/9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2550960" cy="2743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267080" y="40384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l piano di lavoro - 2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realizzare quanto detto in precedenza è opportuno che il tavolo abb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perficie opaca, chiara ma non bia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tezza di circa 72 cm, se fissa; se mobile deve permettere una escursione pari a questo liv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pazio sottostante sufficiente a tenere le gambe semidistese e con la possibilità di inserire il sed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rghezza adeguata al tipo di lavoro, ma che comunque permetta una corretta distanza visiva e un supporto per gli avambrac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Il rischio da videoterminale</a:t>
            </a:r>
            <a:endParaRPr b="0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decreto legislativo 626/94 ha recepito al titolo VI la direttiva particolare 90/270/CEE sui videoterminali.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Gli articoli dal 50 al 59, titolo VI, e l’allegato VII del d.lgs. 626/94, così come modificato dal d. lgs. 242/96, dettano in specifico norme per l’uso di attrezzatura munita di videoterminale. </a:t>
            </a:r>
            <a:br>
              <a:rPr sz="3200"/>
            </a:b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l pano di lavoro - 3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1600200"/>
            <a:ext cx="6553080" cy="30481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3809880" y="1752120"/>
            <a:ext cx="1905120" cy="1143000"/>
          </a:xfrm>
          <a:custGeom>
            <a:avLst/>
            <a:gdLst>
              <a:gd name="textAreaLeft" fmla="*/ 418680 w 1905120"/>
              <a:gd name="textAreaRight" fmla="*/ 1486440 w 1905120"/>
              <a:gd name="textAreaTop" fmla="*/ 251280 h 1143000"/>
              <a:gd name="textAreaBottom" fmla="*/ 891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3505320"/>
            <a:ext cx="2590920" cy="4572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4800" y="24382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58128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ST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3886200"/>
            <a:ext cx="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668000">
            <a:off x="3124080" y="487656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638680" y="48769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ff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2971440" y="4724280"/>
            <a:ext cx="3352680" cy="91440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00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67080" y="4952880"/>
            <a:ext cx="762120" cy="990720"/>
          </a:xfrm>
          <a:prstGeom prst="ellipse">
            <a:avLst/>
          </a:prstGeom>
          <a:solidFill>
            <a:srgbClr val="cc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198108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2895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 -7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41911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 - 20 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5334120"/>
            <a:ext cx="1371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057400"/>
            <a:ext cx="1447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o scherm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caratteri sullo schermo devono avere una buona definizione e forma chiara, grandezza sufficiente e vi deve essere uno spazio adeguato tra i caratteri e le linee. L’immagine sullo schermo deve essere stabile; esente da sfarfallio e da altre forme di instabilità. La brillantezza e/o il contrasto tra i caratteri e lo sfondo dello schermo devono essere facilmente regolabili da parte dell’operatore del videoterminale e facilmente adattabili alle condizioni ambient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733920" y="4114800"/>
            <a:ext cx="201276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o schermo - 2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 schermo deve essere orientabile ed inclinabile liberamente per adeguarsi alle esigenze dell’utente. E’ possibile utilizzare un sostegno separato per lo schermo o un piano regolabile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 schermo non deve avere riflessi o riverberi che possano causare disturbo all’utilizzat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292000">
            <a:off x="5371920" y="3695400"/>
            <a:ext cx="1981080" cy="14479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429000" y="5638680"/>
            <a:ext cx="2666880" cy="121932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351240" y="3352680"/>
            <a:ext cx="2601720" cy="26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trumenti ed accessor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lavoro a videoterminale può essere reso piu’ confortevole grazie ad idonei accesso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orta document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- utile per chi deve battere testi o inserire dati in documenti di grandi dimensioni. Deve essere stabile ed orient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mpant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- le stampanti devono essere poco rumorose e vanno poste preferibilmente su supporti indipendenti. Le stampanti rumorose o sottoposte ad alti carichi di lavoro (stampanti di rete condivise) vanno ubicate in locali isola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trumenti ed accessori - 2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ri accessori util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upporto per monitor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- deve permetterne l’orientamento e garantirne la sta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mpad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- devono permettere una illuminazione diffusa, che non provochi né abbagliamenti, né riflessi fastidiosi e quindi dann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oggiapied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- può essere messo a disposizione in particolare per le persone di piccola statura, così come suggerito dall’allegato VII al d.dlgs. 626/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sorveglianza sanitari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operatore di videoterminale deve essere sottoposto a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orveglianza sanitari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di cui all’art. 16 e 55 del d.dlgs. 626/94. Per operatore si intende colui “che utilizza una attrezzatura munita di videoterminale in modo sistematico ed abituale, per almeno 4 ore consecutive giornaliere, dedotte le interruzioni di cui all’art. 54, per tutta la settimana lavorativa” . (art.51, comma C, del d.dlgs 626/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429000" y="3962520"/>
            <a:ext cx="2462040" cy="19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sorveglianza sanitaria - 2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’ opportuno sottoporre a visita medica preventiva i lavoratori, prima di essere addetti all’attività  di videoterminalista, per evidenziare eventuali malformazioni strutturali ed ancora si raccomanda un esame degli occhi e della vista effettuati da personale medico competente. (art. 55 del d.dlgs. 626/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47788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sorveglianza sanitaria - 3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base agli accertamenti prima descritti i lavoratori possono risult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donei con o senza prescri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 idon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er i lavoratori idonei con prescrizioni e per quelli di età superiore ai 45 anni, andranno previste visite di controllo con periodicità almeno bienn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ampo di applicaz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norme di cui al punto precedente non si applicano ai lavoratori addet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i posti di guida dei veicoli o mac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i sistemi informatici montati a bordo di un mezzo di traspor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i sistemi informatici destinati in modo prioritario all’utilizzo da parte del pub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i sistemi denominati portatili qualora non siano oggetto di utilizzo prolungato in un post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le macchine calcolatrici, ai registratori di cassa e a tutte le attrezzature munite di un piccolo dispositivo di visione dati o misure, necessario all’uso diretto dell’apparec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lle macchine di videoscrittura senza schermo sepa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Obblighi del datore di lavor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datore di lavoro deve effettuare la valutazione del rischio secondo quanto stabilito all’art. 4, comma 1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particolare analizza i luoghi di lavoro ed i rischi connes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vista e gli oc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a postura e l’affaticamento fisico e mentale (st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 condizioni ergonomiche e di igiene ambientale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Rischi per la vista e per gli occh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 tratta generalmente di disturbi reversibili dovuti ad un eccesso di fatica a carico dell’apparato visivo (ASTENOPIA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intomi principali possono ess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uci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crim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nsazione di oggetti estranei nell’occh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astidio alla lu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santez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e caus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cause dei disturbi prima menzionati possono essere molteplici e legati fondamentalmente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ttiva illumi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fetti visivi dell’operat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tanza errata dallo scher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dizioni ambientali sfavorev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attiva illuminaz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sì come indicato nell’allegato VII del d. dlgs. 626/94 e successive modifiche ed interpretazioni, i posti di lavoro devono essere individuati in modo che le fonti luminose (finestre, aperture varie, pareti trasparenti o traslucide, attrezzature e pareti di colore chiaro= non producan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riflessi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sullo scher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05320" y="3581280"/>
            <a:ext cx="2376360" cy="23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 rimed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finestre devono essere munite di dispositivi di copertura regolabile che permettano di attenuare la luce diurna che illumina il posto di lavo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illuminazione generale e quella specifica (lampade), devono garantire un’illuminazione sufficiente ed un contrasto appropriato tra lo schermo e l’ambi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ono essere evitati riflessi ed abbagliamenti sullo schermo e su altre attrezzature strutturando l’arredamento del locale e del posto di lavoro in funzione delle fonti di luce artificiale e delle loro caratteristiche tecnich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162920" y="4724280"/>
            <a:ext cx="132084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ifetti visivi dell’operator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diffusi difetti visivi quali ad esempio la presbiopia, miopia, ipermetropia, ecc., possono contribuire, se mal corretti, a creare un eccesso di fatica dell’apparato visivo (astenopia). I difetti della vista pur non essendo riconducibili all’uso dei videoterminali, vanno adeguatamente corret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00400" y="3505320"/>
            <a:ext cx="33354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6T18:07:38Z</dcterms:created>
  <dc:creator>ELIS</dc:creator>
  <dc:description/>
  <dc:language>en-US</dc:language>
  <cp:lastModifiedBy>ELIS</cp:lastModifiedBy>
  <cp:lastPrinted>1996-07-19T17:00:00Z</cp:lastPrinted>
  <dcterms:modified xsi:type="dcterms:W3CDTF">1998-01-29T18:58:20Z</dcterms:modified>
  <cp:revision>20</cp:revision>
  <dc:subject/>
  <dc:title>IL RISCHIO DA VIDEOTERMINALE</dc:title>
</cp:coreProperties>
</file>