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1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7543800" y="228600"/>
            <a:ext cx="1247760" cy="8398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744280" y="6496200"/>
            <a:ext cx="590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mica e fisica del fuoco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ff"/>
                </a:solidFill>
                <a:latin typeface="Times New Roman"/>
              </a:rPr>
              <a:t>Chimica e Fisica del Fuoco</a:t>
            </a:r>
            <a:br>
              <a:rPr sz="3600"/>
            </a:br>
            <a:endParaRPr b="0" i="1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aratteristiche di alcuni liquidi e gas infiammabil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914400" y="1676520"/>
          <a:ext cx="7010280" cy="41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76520"/>
                    <a:ext cx="701028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arametri della combustione di alcuni combustibil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304920" y="1447920"/>
          <a:ext cx="861048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8610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Il carico d’incend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8960" y="1671480"/>
            <a:ext cx="7729560" cy="517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è un indice della quantita di calore sviluppato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un ipotetico incendio in quell’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q = carico d’incen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= peso del generico tra gli n combustibili presenti nel locale [Kg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= potere calorifico (superiore) del generico fra gli n combustibili di peso g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     [Kcal/Kg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 = Superficie orizzontale, in m</a:t>
            </a:r>
            <a:r>
              <a:rPr b="0" lang="it-IT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, del locale consider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4400 = potere calorifico del leg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conoscenza di “q” è importante per la determinazione della esistenza al fuo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carico d’incendio è espresso dalla quantità equivalente di legno per 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, che si ottiene dividendo per 4400 il numero di calorie per unità di superficie orizzontale del loc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1735200" y="1798560"/>
                <a:ext cx="14191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g</m:t>
                            </m:r>
                            <m:r>
                              <m:t xml:space="preserve">i</m:t>
                            </m:r>
                            <m:r>
                              <m:t xml:space="preserve">∗</m:t>
                            </m:r>
                            <m:r>
                              <m:t xml:space="preserve">h</m:t>
                            </m:r>
                            <m:r>
                              <m:t xml:space="preserve">i</m:t>
                            </m:r>
                          </m:e>
                        </m:nary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400</m:t>
                        </m:r>
                        <m:r>
                          <m:t xml:space="preserve">∗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semp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=50m</a:t>
            </a:r>
            <a:r>
              <a:rPr b="0" lang="it-IT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 Kg car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. cal. = 7000 Kcal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 Kg legn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. cal. = 4000 Kcal/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 Kg propan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. cal. = 94 MJ/Kg x 2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00 Kg PV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. cal. = 17 MJ/Kg x 23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200*700+100*400+200*22372+1000*40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q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400*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93880" y="4699080"/>
            <a:ext cx="453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59480" y="4524480"/>
            <a:ext cx="644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arico d’incendio e calcolo del carico d’incend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204920" y="2073240"/>
          <a:ext cx="7612200" cy="438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073240"/>
                    <a:ext cx="7612200" cy="43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otere calorifico medio /massim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219320" y="1981080"/>
          <a:ext cx="77230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77230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ompartimentazion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00200"/>
            <a:ext cx="7729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 funzione del carico di incendio è possibile realizzare degli ambienti con una resistenza al fuoco predefinita, attraverso la realizzazione di elementi strutturali aventi la funzione di impedire la propagazione degli incendi; questi ambienti, con resistenza al fuoco predefinita, prendono il nome di compartime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una completa ed efficace compartimentazione i muri tagliafuoco non dovrebbero avere aperture, ovviamente è impossibile, perché in un ambiente di lavoro i vari vani, anche se con destinazione d’uso differente, è necessario che siano comunican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’ importante pertanto che gli elementi di chiusura abbiano una resistenaz al fuoco non inferiore al muro su cui sono applic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reazione al fuoc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295280"/>
            <a:ext cx="7729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’ l’attitudine di un elemento esposto al fuoco, a partecipare, per effetto della sua decomposizione, all’incend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reazione al fuoco assume una importanza rilevante nelle costruzioni: materiali di rifinitura, rivestimenti, controsoffitti,tendaggi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ttraverso prove di laboratorio vengono assegnate delle classi ai materiali, da 0 a 5, con l’aumentare della loro partecipazione alla combustione (0=materiale non combustibi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47960" y="2743200"/>
            <a:ext cx="51051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Fasi dell’incend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17%20copia" descr=""/>
          <p:cNvPicPr/>
          <p:nvPr/>
        </p:nvPicPr>
        <p:blipFill>
          <a:blip r:embed="rId1"/>
          <a:stretch/>
        </p:blipFill>
        <p:spPr>
          <a:xfrm>
            <a:off x="0" y="0"/>
            <a:ext cx="474012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73460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ffetti dell’incendi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7" name="18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7164360" cy="541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773460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Obiettiv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72956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vulgare alcuni principi base di prevenzione e lotta agli incendi che trovano una loro utilità nel più generale quadro della informazione sui rischi legati al luogo di lavoro, così come previsto dall’art.21 del D.Lgs. 626/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3424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Prodotti tossici derivanti dalla combustion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9" name="19%20copia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400640" cy="546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ffetti sull’uom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362240"/>
          <a:ext cx="7391520" cy="34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62240"/>
                    <a:ext cx="7391520" cy="34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38080" y="1676520"/>
          <a:ext cx="7391520" cy="3608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676520"/>
                    <a:ext cx="7391520" cy="36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ffetti conseguenti alla carenza di ossigen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70720" indent="-2707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ria inspira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irca il 79% Az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“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21%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ria espirata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irca 79% Azo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“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6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“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,1% C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“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0,9% vapore H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centrazione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10% &lt;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&lt; 15%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ppena cos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6% &lt; 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&lt; 10%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lla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&lt; 6%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orte per asfiss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nche la temperatura e l’umidità influiscono molto sulla sopporta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ffocamento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gato a inspirazione di sostanze tossiche (es. C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lassificazione dei fuochi 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24680" cy="31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fuochi considerati in questa trattazione sono quelli che vengono classificati in base alla sostanza combustibile che li genera e che hanno come comburente l’ossigeno dell’aria atmosferica. La classificazione dei fuochi riportata di seguito è quella della Normalizzazione (CEN). Dopo l’emanazione del DM 20.12.1982 tale classificazione, recepita integralmente, è venuta a far parte delle leggi italia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Classificazione dei fuoch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228600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 A: fuochi di materie solide generalmente di natura organica, la cui combustione normalmente avviene con produzione di bra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 B: fuochi di liquidi o di solidi che si possono liquef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 C: fuochi 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SE D: fuochi di metal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734600" cy="97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Esempi di materiali attribuiti alle quattro classi di fuoco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2" name="24%20copia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391520" cy="1724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09480" y="283860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t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gn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gatur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ciol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ff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fiut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fiammabil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ton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br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bon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itumi grass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gli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acc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liggine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2819520"/>
            <a:ext cx="18288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Nafta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benzina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etrolio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Alcool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oli pesanti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etere solforico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licerina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vernici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gomme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sine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fenoli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zolfo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trementina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solidi liquefabili</a:t>
            </a:r>
            <a:br>
              <a:rPr sz="1600"/>
            </a:b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liquidi infiammab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2819520"/>
            <a:ext cx="1600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r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s illuminan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etilen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pa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rogen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oruro di meti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s infiammabili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2819520"/>
            <a:ext cx="1600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gnesi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tassi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sfor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di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ectron (Al-Mg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bur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l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La combustion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è una reazione chimica esoter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7040" y="2597040"/>
            <a:ext cx="2578320" cy="135900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60520" y="4010040"/>
            <a:ext cx="141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ustib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41560" y="2867040"/>
            <a:ext cx="1263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u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33200" y="2943360"/>
            <a:ext cx="88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n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70440" y="2616120"/>
            <a:ext cx="17780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olo del fuo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67560" y="4521240"/>
            <a:ext cx="5213520" cy="20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ustione di: sostanze solide, liquide, gass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emp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zione di combustione del metano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2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63800" y="6222960"/>
            <a:ext cx="10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3676320" y="6153120"/>
            <a:ext cx="2458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97200" y="6229440"/>
            <a:ext cx="225360" cy="30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Tipi di ignizion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Tipi di inne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fonti di innesco possono agire in modo diretto o indiretto. Inoltre l’accensione può verificarsi spontaneamente o come risultato di un’azione chimica o catata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Sostanze inst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no quelle sostanze che possono decomporsi facilmente (sotto l’azione di modesti stimoli) dando luogo a pericoli di incendio o di esplos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: perossidi, clorati, nitrati,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Tipi di ignizion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729560" cy="4932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GNIZIONE DIRE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ignizione diretta ha luogo quando una scintilla, una fiamma o un materiale incandescente viene in contatto con un combustibile in presenza di ossige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ATT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’effetto dell’attrito è la produzione di c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Times New Roman"/>
              </a:rPr>
              <a:t>IGNIZIONE INDIRE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l caso di incendio all’interno di un edificio, il calore può essere trasportato per convenzione attraverso i vani di intercomunicazione verticale tra i piani (trombe delle scale, vani ascensore e/o montacarichi, condotte dell’aria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Tipi di ignizione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ISCALDAMENTO SPONTANEO (autocombustion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l calore necessario per innescare l’incendio può essere fornito dal combustibile stesso. Solitamente questa evenienza è la conseguenza di un lento processo di ossidazione come avviene, ad esempio, nel caso di mucchi di carbone formati in modo improp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ati statistici riguardanti gli incendi avvenuti in Italia e all’estero</a:t>
            </a:r>
            <a:endParaRPr b="0" i="1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se degli incendi nelle attività industriali anno 19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12880" y="2428920"/>
          <a:ext cx="6083280" cy="400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2880" y="2428920"/>
                    <a:ext cx="608328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295280" y="1752480"/>
          <a:ext cx="6324840" cy="4594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752480"/>
                    <a:ext cx="6324840" cy="45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emperatura d’infiammabilità: minima T alla quale il combustibile (solido o liquido) emette vapori in quantità sufficiente da formare con l’aria una miscela infiammabile (si accende in presenza di innesco). Es. Pentano, gas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emperatura d’accensione: minima temperatura alla quale un combustibile inizia spontaneamente a bruciare. Es.: riscaldamento recip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imite inferiore e superiore di infiammabilità: concentrazione minima e massima del combustibile nella miscela vapori-area al di sotto ed al di sopra della quale la miscela non può infiammars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00240" y="304920"/>
            <a:ext cx="7734240" cy="97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0" i="1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729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tere calorifico: quantità di calore prodotta dalla combustione dell’unità di volume della sostanza combusti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plosione: rapida combustione con sviluppo di 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flagr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ton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olv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ampo di esplodibi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6T11:46:16Z</dcterms:created>
  <dc:creator>Marco Nicchi</dc:creator>
  <dc:description/>
  <dc:language>en-US</dc:language>
  <cp:lastModifiedBy>Paolo SGRECCIA</cp:lastModifiedBy>
  <cp:lastPrinted>1996-07-19T17:00:00Z</cp:lastPrinted>
  <dcterms:modified xsi:type="dcterms:W3CDTF">2098-01-23T17:33:02Z</dcterms:modified>
  <cp:revision>68</cp:revision>
  <dc:subject/>
  <dc:title>Il comportamento umano in caso di emergenza</dc:title>
</cp:coreProperties>
</file>