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69320" y="6384960"/>
            <a:ext cx="546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nologia normativa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667640" y="204840"/>
            <a:ext cx="1247760" cy="838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63320" y="3106800"/>
            <a:ext cx="747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LA CRONOLOGIA NORMATI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92920" y="303840"/>
            <a:ext cx="656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200" spc="-1" strike="noStrike">
                <a:solidFill>
                  <a:srgbClr val="3333ff"/>
                </a:solidFill>
                <a:latin typeface="Times New Roman"/>
              </a:rPr>
              <a:t>Art. 4 DPR 303/56</a:t>
            </a:r>
            <a:br>
              <a:rPr sz="2200"/>
            </a:br>
            <a:r>
              <a:rPr b="1" i="1" lang="it-IT" sz="2200" spc="-1" strike="noStrike">
                <a:solidFill>
                  <a:srgbClr val="3333ff"/>
                </a:solidFill>
                <a:latin typeface="Times New Roman"/>
              </a:rPr>
              <a:t>Obblighi dei datori di lavoro, dei dirigenti e dei prep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7920" y="1364400"/>
            <a:ext cx="810396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uare le misure previste dal decreto in og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ire ai lavoratori i necessari mezzi di prot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dere edotti i lavoratori sui rischi specifici cui so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osti e portare a loro conoscenza i modi di preveni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dan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porre ed esigere che i singoli lavoratori osservi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 norme di igiene ed usino i mezzi di protezione mes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oro disposi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47360" y="303480"/>
            <a:ext cx="30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Art. 5 DPR 303/56</a:t>
            </a:r>
            <a:br>
              <a:rPr sz="2400"/>
            </a:b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Obblighi dei al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2040" y="1364400"/>
            <a:ext cx="794520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servare le norme del presente de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servare le misure disposte dal datore di lav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are con cure i dispositivi tecnico-sanitari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i altri mezzi di prot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gnalare le deficienze dei dispositivi e dei mezz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 prote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 rimuovere o modificare i dispositivi e i mezzi d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ezione senza autor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30960" y="455760"/>
            <a:ext cx="614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Legge 20 Maggio 1970 n° 300</a:t>
            </a:r>
            <a:br>
              <a:rPr sz="2400"/>
            </a:b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Art. 9 - Tutela della salute e dell’integrità fi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600" y="1675440"/>
            <a:ext cx="79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avoratori, mediante loro rappresentanz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no diritto di controllare l’applicazio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le norme per la prevenzione degli infortun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 delle malattie professionali e di promuov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icerca, l’elaborazione e l’attuazione 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te le misure idonee a tutelare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ro salute e la loro integrità fis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77880" y="455760"/>
            <a:ext cx="54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Legge 23 Dicembre 1978 n° 833</a:t>
            </a:r>
            <a:br>
              <a:rPr sz="2400"/>
            </a:b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Istituzione del servizio sanitario nazi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1504080"/>
            <a:ext cx="919548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t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rinci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ela della salute mediante il S.S.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l S.S.N. è costituito dal complesso delle funzioni, strutture, serviz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stinati alla promozione e al mantenimento della salute fisica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sichica di tutta la 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bietti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evenzione delle malattie e degli infortuni in ogni ambito di vita e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 promozione e la salvaguardia della salubrità e dell’igiene dell’amb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 vita e di lavo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Perseguire la sicurezza del lavoro con la partecipazione dei lavoratori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lle loro organizz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257480" y="379800"/>
            <a:ext cx="52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Art. 20 - Attività di prevenzione - parte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2640" y="1995840"/>
            <a:ext cx="841464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Gli interventi di prevenzione nei luoghi di lavoro concern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la ricerca, l’elaborazione, l’attuazione delle misure di tutela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della salute connesse alla particolarità del lavoro e n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previste da norme di legge, sono effetuati sulla base d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verifiche congiunte datore di lavoro OO.SS.LL. second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modalità previste dai contratti collettivi o accordi applicat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</a:rPr>
              <a:t>nella produttività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57840" y="53244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400" spc="-1" strike="noStrike">
                <a:solidFill>
                  <a:srgbClr val="3333ff"/>
                </a:solidFill>
                <a:latin typeface="Times New Roman"/>
              </a:rPr>
              <a:t>Art. 20 - Attività di prevenzione - parte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12840" y="1652040"/>
            <a:ext cx="862488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re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ividuazione, accertamento e controllo dei fattori di nociv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unicazione dei dati accertati e diffusione della loro conosc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Reg. Dati Ambientali e Biostatici Art. 2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dicazione delle misire per l’eliminazione dei fattori di risch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rmulazione mappe di rischio ( obbligo per le aziende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unicare: sostanze presenti nel ciclo produttivo, caratteristi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ossicologich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9360" y="380520"/>
            <a:ext cx="69166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5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300" spc="-1" strike="noStrike">
                <a:solidFill>
                  <a:srgbClr val="3333ff"/>
                </a:solidFill>
                <a:latin typeface="Times New Roman"/>
              </a:rPr>
              <a:t>Tutela della salute e sicurezza dei lavoratori</a:t>
            </a:r>
            <a:br>
              <a:rPr sz="2300"/>
            </a:br>
            <a:r>
              <a:rPr b="1" i="1" lang="it-IT" sz="2300" spc="-1" strike="noStrike">
                <a:solidFill>
                  <a:srgbClr val="3333ff"/>
                </a:solidFill>
                <a:latin typeface="Times New Roman"/>
              </a:rPr>
              <a:t>Legislazione italiana di recepimento della direttiva CE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960" y="1204200"/>
            <a:ext cx="836136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Lgs 15 Agosto 1991, n° 277  “Protezione dei lavoratori contro i risch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rivanti dall’esposizione ad agenti chimici-fisici -biologici (piombo-amiant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umore)”. Attuazione della direttiva 80/1107/CEE, 82/605/CEE,  83/477/CE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6/188/CEE, 88/642/C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Lgs 19 Settembre 1996, n° 626 “Miglioramento della sicurezza e della sal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ei lavoratori negli ambienti di lavoro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PR 24 Luglio 1996, n° 459 “ Direttiva macchine”. Attuazione della diretti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89/392/CEE, 91/368/CEE, )£/44/CEE, 93/68/C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Lgs 14 Agosto 1996, n° 493 “Segnaletica di sicurezza”. Attuazione d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rettiva 92/58/C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.Lgs 14 Agosto 1996, n° 494 “Cantieri temporali e mobili”. Attuazione d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irettiva 92/57/CE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38920" y="38016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imes New Roman"/>
              </a:rPr>
              <a:t>LA NUOVA SICUR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2480" y="1873080"/>
            <a:ext cx="815904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 il recepimento delle nuove direttive europee, nasce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sapevolezza culturale e giuridica che la sicurezza ogget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i macchine e di ambienti deve essere necessariam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compagnata da una organizzazione del lavoro e 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portamenti materiali dei lavoratori “soggettovamente sicuri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icurezza “tecnologica” oggettiva data dalle nuo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etodologie e tecniche di preven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70680" y="2511360"/>
            <a:ext cx="8020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noramica sulla normativa attualmente vigente in mater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 sicurezza ed igiene negli ambienti di lavoro port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mporre tale normativa in due grandi filo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filone di carattere e portata più generale (Costituzio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ce Civile, Codice Pe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filone più tecnico relativo a particolari situazioni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PR 547/55, DPR 303/56, DPR 164/56, DPR 320/5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2240" y="533520"/>
            <a:ext cx="3842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La cronologia n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27480" y="1676160"/>
            <a:ext cx="80150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32 …sancisce la tutela della salute come diri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ndamentale dell’individuo e come interesse d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llettività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41 …l’iniziativa economica privata è libera e n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uò svolgersi in contrasto con l’utilità sociale o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modo da recare danno alla sicurezza, alla libertà 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lla dignità umana,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5680" y="532800"/>
            <a:ext cx="562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COSTITUZIONE REPUBBLIC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63400" y="3042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CODICE PENA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20" y="2102040"/>
            <a:ext cx="806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437 : Rimozione ed omissione dolosa di cau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contro gli infortuni sul lavo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Art. 451 : Omissione colposa (negligenza, imprud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 imperizia) di cautele o difese contro disastri 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infortuni sul lavo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684080" y="456480"/>
            <a:ext cx="5118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CODICE CIV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000" spc="-1" strike="noStrike">
                <a:solidFill>
                  <a:srgbClr val="3333ff"/>
                </a:solidFill>
                <a:latin typeface="Times New Roman"/>
              </a:rPr>
              <a:t>TUTELA DELLE CONDIZIONI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5320" y="1919880"/>
            <a:ext cx="7895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rt. 2087 : …l’imprenditore adotta nell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sercizio dell’impresa le misure che, second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 particolarità dellavoro, l’esperienza e 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cnica, sono necessarie a tutelare l’integr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fisica e la personalità morale dei prestatori 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lavor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2080" y="1905120"/>
            <a:ext cx="767556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t. 1   ATTIVITA’ SOGG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utte le attività alle quali siano addetti lavo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ubordinati … comprese quelle esercitate dallo stat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alle regioni, dalle provincie, dai comuni, da altri 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ubblici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rt. 2   ATTIVITA’ ESCL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sercizio delle miniere, cave e torbi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Servizi ed impianti gestiti dalle F.F.S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Servizi ed impianti gestiti dal Ministero della 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sercizio di trasporti pubblici terrest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- Esercizio della navigazione marittima ed ae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44280" y="304560"/>
            <a:ext cx="61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3333ff"/>
                </a:solidFill>
                <a:latin typeface="Times New Roman"/>
              </a:rPr>
              <a:t>Dpr 547 del 27 Aprile 19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3333ff"/>
                </a:solidFill>
                <a:latin typeface="Times New Roman"/>
              </a:rPr>
              <a:t>Norme per la prevenzione degli infortu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5120" y="1981080"/>
            <a:ext cx="7425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uare le misure di sicurezza previste dal de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dere edotti i lavoratori dei rischi cui sono esposti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arli a conoscenza delle norme di 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e obbligo non si estende ai rischi propri dell’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e che il lavoratore autonomo è incaricato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igere che i lavoratori osservino le norme di sicurezza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o i mezzi di protezione a loro dis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60960" y="456120"/>
            <a:ext cx="656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200" spc="-1" strike="noStrike">
                <a:solidFill>
                  <a:srgbClr val="3333ff"/>
                </a:solidFill>
                <a:latin typeface="Times New Roman"/>
              </a:rPr>
              <a:t>Artt. 4 e 5 DPR 547/5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200" spc="-1" strike="noStrike">
                <a:solidFill>
                  <a:srgbClr val="3333ff"/>
                </a:solidFill>
                <a:latin typeface="Times New Roman"/>
              </a:rPr>
              <a:t>Obblighi dei datori di lavoro, dei dirigenti e dei prepos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87760" y="228240"/>
            <a:ext cx="334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3333ff"/>
                </a:solidFill>
                <a:latin typeface="Times New Roman"/>
              </a:rPr>
              <a:t>Art. 6 DPR 547/5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it-IT" sz="2800" spc="-1" strike="noStrike">
                <a:solidFill>
                  <a:srgbClr val="3333ff"/>
                </a:solidFill>
                <a:latin typeface="Times New Roman"/>
              </a:rPr>
              <a:t>Doveri dei Lavor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360" y="125244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sservare le misure disposte dal datore di lavoro ai fini d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curezza individuale e colle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sare con cura i dispositivi di sicurezza e gli altri mezz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even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egnalare al datire di lavoro, ai dirigenti od ai preposti 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deficienze dei dispositivi di sicurezza e di protezione nonchè 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ndizioni di pericolo di cui vengono a conosc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doperandosi... per eliminare i peric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rimuovere o modificare i dispositivi e gli altri mezzi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icurezza ... senza autor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Non compiere di propria iniziativa operazioni che non siano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oro competenza e che possano compromettere 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ropria e di altre pers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76960" y="227160"/>
            <a:ext cx="49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DPR 19 Marzo 1956 , n° 303</a:t>
            </a:r>
            <a:br>
              <a:rPr sz="2400"/>
            </a:br>
            <a:r>
              <a:rPr b="1" i="1" lang="en-US" sz="2400" spc="-1" strike="noStrike">
                <a:solidFill>
                  <a:srgbClr val="3333ff"/>
                </a:solidFill>
                <a:latin typeface="Times New Roman"/>
              </a:rPr>
              <a:t>Norme generali per l’igiene del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2160" y="1428120"/>
            <a:ext cx="84452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t. 1 Attività sogget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Tutte le attività alle quali siano addetti lavoratori subordinati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prese quelle esercitate dallo stato, dalle regioni, dalle provinci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dai comuni, da altri enti pubbli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FS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e disposizioni del decreto saranno applicate adattandole alee particol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igenze dell’esercizio ferrovi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rt. 2 Attività escl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srcizio delle miniere , cave e torbi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vori a bordo delle navi mercant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vori a bordo degli aereomo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imprese industriali, commerciali ed agricole gestite dal titolare con il so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aiuto dei membri della famig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17T08:46:06Z</dcterms:created>
  <dc:creator/>
  <dc:description/>
  <dc:language>en-US</dc:language>
  <cp:lastModifiedBy>ELIS</cp:lastModifiedBy>
  <dcterms:modified xsi:type="dcterms:W3CDTF">1998-01-22T18:32:58Z</dcterms:modified>
  <cp:revision>18</cp:revision>
  <dc:subject/>
  <dc:title>Nessun titolo diapositiva</dc:title>
</cp:coreProperties>
</file>