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2.wmf" ContentType="image/x-wmf"/>
  <Override PartName="/ppt/media/image28.png" ContentType="image/png"/>
  <Override PartName="/ppt/media/image13.wmf" ContentType="image/x-wmf"/>
  <Override PartName="/ppt/media/image30.jpeg" ContentType="image/jpeg"/>
  <Override PartName="/ppt/media/image7.wmf" ContentType="image/x-wmf"/>
  <Override PartName="/ppt/media/image37.wmf" ContentType="image/x-wmf"/>
  <Override PartName="/ppt/media/image8.wmf" ContentType="image/x-wmf"/>
  <Override PartName="/ppt/media/image9.wmf" ContentType="image/x-wmf"/>
  <Override PartName="/ppt/media/image32.png" ContentType="image/png"/>
  <Override PartName="/ppt/media/image15.wmf" ContentType="image/x-wmf"/>
  <Override PartName="/ppt/media/image33.png" ContentType="image/png"/>
  <Override PartName="/ppt/media/image16.wmf" ContentType="image/x-wmf"/>
  <Override PartName="/ppt/media/image35.png" ContentType="image/png"/>
  <Override PartName="/ppt/media/image34.jpeg" ContentType="image/jpeg"/>
  <Override PartName="/ppt/media/image36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29.jpeg" ContentType="image/jpe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4.wmf" ContentType="image/x-wmf"/>
  <Override PartName="/ppt/media/image31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97520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752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1293840" y="3257640"/>
            <a:ext cx="716760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3164040" y="515520"/>
            <a:ext cx="3425760" cy="256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i="1" lang="en-US" sz="4300" spc="-1" strike="noStrike">
                <a:solidFill>
                  <a:srgbClr val="0000ff"/>
                </a:solidFill>
                <a:latin typeface="Book Antiqua"/>
              </a:rPr>
              <a:t>Click to move the slide</a:t>
            </a:r>
            <a:endParaRPr b="0" i="1" lang="en-US" sz="43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1293840" y="3257280"/>
            <a:ext cx="7167600" cy="307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Prima dell'esecuzione di qualsiasi  lavoro in un impianto elettrico, è necessario prendere cognizione dell'installazione ed effettuare le manovre di fuori servizio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Solo avendo tolto di servizio le apparecchiature, è possibile accedere, in sicurezza, ai macchinari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E' vietato eseguire lavori su macchine, apparecchiature, condutture elettriche in tensione, senza avere prima: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- tolto tensio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- interrotto visibilmente il circuito, nei punti di possibile alimentazione dell'impianto su cui si deve operar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- esposto un avviso su tutti i posti di manovra e di comando, con l'indicazione "Lavori in corso, non effettuare manovre ! "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- isolata e messa a terra, in tutte le fasi, la parte di impianto sulla quale, o nelle cui immediate vicinanze, debbono essere svolti i lavori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ldImg"/>
          </p:nvPr>
        </p:nvSpPr>
        <p:spPr>
          <a:xfrm>
            <a:off x="3203640" y="503280"/>
            <a:ext cx="3425760" cy="2568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i="1" lang="en-US" sz="43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92160" y="3830760"/>
            <a:ext cx="762624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i="1" lang="en-US" sz="43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92160" y="383076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99960" y="383076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i="1" lang="en-US" sz="43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0840" y="167652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49520" y="167652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92160" y="383076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0840" y="383076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49520" y="3830760"/>
            <a:ext cx="245556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i="1" lang="en-US" sz="43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i="1" lang="en-US" sz="43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i="1" lang="en-US" sz="43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i="1" lang="en-US" sz="43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2160" y="271440"/>
            <a:ext cx="762624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i="1" lang="en-US" sz="43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92160" y="383076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i="1" lang="en-US" sz="43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99960" y="383076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i="1" lang="en-US" sz="43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9960" y="1676520"/>
            <a:ext cx="372132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2160" y="3830760"/>
            <a:ext cx="7626240" cy="19670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i="1" lang="en-US" sz="43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i="1" lang="en-US" sz="43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-330120">
              <a:spcBef>
                <a:spcPts val="774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1" marL="716040" indent="-271440">
              <a:spcBef>
                <a:spcPts val="774"/>
              </a:spcBef>
              <a:buClr>
                <a:srgbClr val="0000ff"/>
              </a:buClr>
              <a:buFont typeface="Book Antiqua"/>
              <a:buChar char="–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2" marL="1101600" indent="-218880">
              <a:spcBef>
                <a:spcPts val="774"/>
              </a:spcBef>
              <a:buClr>
                <a:srgbClr val="ff0000"/>
              </a:buClr>
              <a:buFont typeface="Book Antiqua"/>
              <a:buChar char="»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3" marL="1542960" indent="-218880">
              <a:spcBef>
                <a:spcPts val="774"/>
              </a:spcBef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4" marL="1984320" indent="-220680">
              <a:spcBef>
                <a:spcPts val="774"/>
              </a:spcBef>
              <a:buClr>
                <a:srgbClr val="0000ff"/>
              </a:buClr>
              <a:buFont typeface="Book Antiqua"/>
              <a:buChar char="–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5" marL="1984320" indent="-220680">
              <a:spcBef>
                <a:spcPts val="774"/>
              </a:spcBef>
              <a:buClr>
                <a:srgbClr val="000000"/>
              </a:buClr>
              <a:buFont typeface="Book Antiqua"/>
              <a:buChar char="–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  <a:p>
            <a:pPr lvl="6" marL="1984320" indent="-220680">
              <a:spcBef>
                <a:spcPts val="774"/>
              </a:spcBef>
              <a:buClr>
                <a:srgbClr val="000000"/>
              </a:buClr>
              <a:buFont typeface="Book Antiqua"/>
              <a:buChar char="–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"/>
          <p:cNvSpPr/>
          <p:nvPr/>
        </p:nvSpPr>
        <p:spPr>
          <a:xfrm>
            <a:off x="6365880" y="6316560"/>
            <a:ext cx="2554200" cy="43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europa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47760" cy="839880"/>
          </a:xfrm>
          <a:prstGeom prst="rect">
            <a:avLst/>
          </a:prstGeom>
          <a:ln w="0">
            <a:noFill/>
          </a:ln>
        </p:spPr>
      </p:pic>
      <p:pic>
        <p:nvPicPr>
          <p:cNvPr id="4" name="europa" descr=""/>
          <p:cNvPicPr/>
          <p:nvPr/>
        </p:nvPicPr>
        <p:blipFill>
          <a:blip r:embed="rId3"/>
          <a:stretch/>
        </p:blipFill>
        <p:spPr>
          <a:xfrm>
            <a:off x="7543800" y="228600"/>
            <a:ext cx="1247760" cy="8398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736080" y="6415200"/>
            <a:ext cx="508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oscere i rischi -- Programma LEON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1.wmf"/><Relationship Id="rId6" Type="http://schemas.openxmlformats.org/officeDocument/2006/relationships/image" Target="../media/image19.wmf"/><Relationship Id="rId7" Type="http://schemas.openxmlformats.org/officeDocument/2006/relationships/image" Target="../media/image22.wmf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4300" spc="-1" strike="noStrike">
                <a:solidFill>
                  <a:srgbClr val="0000ff"/>
                </a:solidFill>
                <a:latin typeface="Book Antiqua"/>
              </a:rPr>
              <a:t>La sicurezza negli uffici</a:t>
            </a:r>
            <a:endParaRPr b="0" i="1" lang="en-US" sz="43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12200" y="2057400"/>
            <a:ext cx="864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Le porte a tutto vetro scarsamente visibili possono essere causa di urt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Apporre indicatori che ne segnalino la presen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66680" y="2895480"/>
            <a:ext cx="1397160" cy="2590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579040" y="4272120"/>
            <a:ext cx="7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ook Antiqua"/>
              </a:rPr>
              <a:t>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705720" y="2819520"/>
            <a:ext cx="1395360" cy="25905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942880" y="4267080"/>
            <a:ext cx="5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Book Antiqua"/>
              </a:rPr>
              <a:t>SI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3733920"/>
            <a:ext cx="609480" cy="60948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238880" y="38098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35120" y="287280"/>
            <a:ext cx="51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Book Antiqua"/>
              </a:rPr>
              <a:t>La sicurezza negli uffic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Book Antiqua"/>
              </a:rPr>
              <a:t>La sicurezza negli uffici</a:t>
            </a:r>
            <a:endParaRPr b="0" i="1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9" name=""/>
          <p:cNvSpPr/>
          <p:nvPr/>
        </p:nvSpPr>
        <p:spPr>
          <a:xfrm>
            <a:off x="594720" y="1384200"/>
            <a:ext cx="8383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’affaticamento può essere ridotto seguendo elementari principi ergonom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4440" y="1828800"/>
            <a:ext cx="7626600" cy="41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Errate  posizioni  possono  determinare 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l’insorgenza di dolori muscolari localizzati 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(alla nuca, alle spalle, alla schiena, alle bracc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Pertanto quando si è seduti assumere 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posizione ergonomicamente corret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248520" y="3505320"/>
            <a:ext cx="2209680" cy="2514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1878120" cy="1673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971800" y="3581280"/>
            <a:ext cx="1760400" cy="1584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17640" y="335268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73400" y="447192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Book Antiqu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04080" y="4091040"/>
            <a:ext cx="5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Book Antiqua"/>
              </a:rPr>
              <a:t>SI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Book Antiqua"/>
              </a:rPr>
              <a:t>Pericoli da elettricità</a:t>
            </a:r>
            <a:endParaRPr b="0" i="1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8" name=""/>
          <p:cNvSpPr/>
          <p:nvPr/>
        </p:nvSpPr>
        <p:spPr>
          <a:xfrm>
            <a:off x="138240" y="1738440"/>
            <a:ext cx="3136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he un modesto valore della corrente può risultare fa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429000" y="1371600"/>
            <a:ext cx="1271520" cy="1393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34120" y="2971800"/>
            <a:ext cx="1752480" cy="1262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990720" y="3657600"/>
            <a:ext cx="1576440" cy="28195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472640" y="1447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0,47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44920" y="271944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127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40480" y="2362320"/>
            <a:ext cx="90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3,3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66080" y="411480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220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41040" y="5246640"/>
            <a:ext cx="59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tano 0,05 Ampere per trasformarti così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Book Antiqua"/>
              </a:rPr>
              <a:t>Realizzazione impianti elettrici</a:t>
            </a:r>
            <a:endParaRPr b="0" i="1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08" name=""/>
          <p:cNvSpPr/>
          <p:nvPr/>
        </p:nvSpPr>
        <p:spPr>
          <a:xfrm>
            <a:off x="366840" y="2043000"/>
            <a:ext cx="1993680" cy="20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tutti gli apparati c’è bisogno della messa a ter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tutti i circuiti di alimentazione della protezione differenzi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791320" y="1143000"/>
            <a:ext cx="1074600" cy="987480"/>
            <a:chOff x="5791320" y="1143000"/>
            <a:chExt cx="1074600" cy="98748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5791320" y="1143000"/>
              <a:ext cx="107460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6176880" y="1817280"/>
              <a:ext cx="357120" cy="1555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78760" y="1557360"/>
              <a:ext cx="101880" cy="103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78760" y="1765440"/>
              <a:ext cx="101880" cy="103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8760" y="1375560"/>
              <a:ext cx="101880" cy="103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514600" y="2666880"/>
            <a:ext cx="1295280" cy="1447920"/>
            <a:chOff x="2514600" y="2666880"/>
            <a:chExt cx="1295280" cy="144792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2514600" y="2666880"/>
              <a:ext cx="129528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979000" y="3655440"/>
              <a:ext cx="430560" cy="2282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02120" y="3274560"/>
              <a:ext cx="123120" cy="152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02120" y="3579480"/>
              <a:ext cx="123120" cy="15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02120" y="3008160"/>
              <a:ext cx="123120" cy="15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6248520" y="1447920"/>
            <a:ext cx="1752480" cy="7840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562720" y="1981080"/>
            <a:ext cx="1398600" cy="731880"/>
          </a:xfrm>
          <a:custGeom>
            <a:avLst/>
            <a:gdLst/>
            <a:ahLst/>
            <a:rect l="l" t="t" r="r" b="b"/>
            <a:pathLst>
              <a:path w="881" h="461">
                <a:moveTo>
                  <a:pt x="0" y="53"/>
                </a:moveTo>
                <a:cubicBezTo>
                  <a:pt x="6" y="49"/>
                  <a:pt x="70" y="0"/>
                  <a:pt x="75" y="0"/>
                </a:cubicBezTo>
                <a:cubicBezTo>
                  <a:pt x="108" y="0"/>
                  <a:pt x="150" y="64"/>
                  <a:pt x="150" y="64"/>
                </a:cubicBezTo>
                <a:cubicBezTo>
                  <a:pt x="161" y="60"/>
                  <a:pt x="172" y="59"/>
                  <a:pt x="182" y="53"/>
                </a:cubicBezTo>
                <a:cubicBezTo>
                  <a:pt x="197" y="44"/>
                  <a:pt x="207" y="24"/>
                  <a:pt x="225" y="21"/>
                </a:cubicBezTo>
                <a:cubicBezTo>
                  <a:pt x="235" y="19"/>
                  <a:pt x="240" y="35"/>
                  <a:pt x="246" y="43"/>
                </a:cubicBezTo>
                <a:cubicBezTo>
                  <a:pt x="281" y="86"/>
                  <a:pt x="250" y="69"/>
                  <a:pt x="300" y="86"/>
                </a:cubicBezTo>
                <a:cubicBezTo>
                  <a:pt x="343" y="79"/>
                  <a:pt x="387" y="77"/>
                  <a:pt x="428" y="64"/>
                </a:cubicBezTo>
                <a:cubicBezTo>
                  <a:pt x="450" y="57"/>
                  <a:pt x="493" y="43"/>
                  <a:pt x="493" y="43"/>
                </a:cubicBezTo>
                <a:cubicBezTo>
                  <a:pt x="527" y="95"/>
                  <a:pt x="503" y="101"/>
                  <a:pt x="568" y="118"/>
                </a:cubicBezTo>
                <a:cubicBezTo>
                  <a:pt x="575" y="113"/>
                  <a:pt x="635" y="69"/>
                  <a:pt x="643" y="75"/>
                </a:cubicBezTo>
                <a:cubicBezTo>
                  <a:pt x="675" y="98"/>
                  <a:pt x="674" y="149"/>
                  <a:pt x="696" y="182"/>
                </a:cubicBezTo>
                <a:cubicBezTo>
                  <a:pt x="750" y="178"/>
                  <a:pt x="807" y="152"/>
                  <a:pt x="857" y="171"/>
                </a:cubicBezTo>
                <a:cubicBezTo>
                  <a:pt x="881" y="180"/>
                  <a:pt x="869" y="221"/>
                  <a:pt x="868" y="246"/>
                </a:cubicBezTo>
                <a:cubicBezTo>
                  <a:pt x="865" y="304"/>
                  <a:pt x="860" y="362"/>
                  <a:pt x="846" y="418"/>
                </a:cubicBezTo>
                <a:cubicBezTo>
                  <a:pt x="842" y="432"/>
                  <a:pt x="835" y="461"/>
                  <a:pt x="835" y="461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048120" y="3200400"/>
            <a:ext cx="2209680" cy="992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3124080" y="2666880"/>
            <a:ext cx="2057400" cy="9241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5400000">
            <a:off x="4686120" y="1104480"/>
            <a:ext cx="1066680" cy="48006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4800600"/>
              <a:gd name="textAreaBottom" fmla="*/ 4800960 h 48006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5400000">
            <a:off x="7505280" y="2247840"/>
            <a:ext cx="1752480" cy="60948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435080" y="285768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R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21680" y="190512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TATTO DIRE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80880" y="4267080"/>
            <a:ext cx="609840" cy="533520"/>
            <a:chOff x="380880" y="4267080"/>
            <a:chExt cx="609840" cy="533520"/>
          </a:xfrm>
        </p:grpSpPr>
        <p:pic>
          <p:nvPicPr>
            <p:cNvPr id="130" name="" descr=""/>
            <p:cNvPicPr/>
            <p:nvPr/>
          </p:nvPicPr>
          <p:blipFill>
            <a:blip r:embed="rId6"/>
            <a:stretch/>
          </p:blipFill>
          <p:spPr>
            <a:xfrm>
              <a:off x="380880" y="4267080"/>
              <a:ext cx="6098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599400" y="4631400"/>
              <a:ext cx="202680" cy="83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57720" y="4491000"/>
              <a:ext cx="57960" cy="56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7720" y="4603320"/>
              <a:ext cx="57960" cy="55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7720" y="4392720"/>
              <a:ext cx="57960" cy="55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 rot="16200000">
            <a:off x="761760" y="4343040"/>
            <a:ext cx="228600" cy="38088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240"/>
                </a:moveTo>
                <a:lnTo>
                  <a:pt x="0" y="0"/>
                </a:lnTo>
                <a:lnTo>
                  <a:pt x="240" y="0"/>
                </a:lnTo>
                <a:lnTo>
                  <a:pt x="240" y="240"/>
                </a:lnTo>
                <a:lnTo>
                  <a:pt x="144" y="336"/>
                </a:lnTo>
                <a:lnTo>
                  <a:pt x="48" y="336"/>
                </a:lnTo>
                <a:lnTo>
                  <a:pt x="0" y="240"/>
                </a:lnTo>
                <a:close/>
              </a:path>
            </a:pathLst>
          </a:custGeom>
          <a:solidFill>
            <a:srgbClr val="00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4495680"/>
            <a:ext cx="533520" cy="990720"/>
          </a:xfrm>
          <a:custGeom>
            <a:avLst/>
            <a:gdLst/>
            <a:ahLst/>
            <a:rect l="l" t="t" r="r" b="b"/>
            <a:pathLst>
              <a:path w="336" h="624">
                <a:moveTo>
                  <a:pt x="0" y="0"/>
                </a:moveTo>
                <a:lnTo>
                  <a:pt x="240" y="240"/>
                </a:lnTo>
                <a:lnTo>
                  <a:pt x="336" y="624"/>
                </a:ln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1295280" y="5249880"/>
            <a:ext cx="1981440" cy="16081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219320" y="4952880"/>
            <a:ext cx="685800" cy="609840"/>
          </a:xfrm>
          <a:prstGeom prst="irregularSeal2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2438280" y="5486400"/>
            <a:ext cx="990720" cy="4446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rot="5400000">
            <a:off x="3695760" y="5143320"/>
            <a:ext cx="380880" cy="1524240"/>
          </a:xfrm>
          <a:custGeom>
            <a:avLst/>
            <a:gdLst>
              <a:gd name="textAreaLeft" fmla="*/ 0 w 380880"/>
              <a:gd name="textAreaRight" fmla="*/ 381240 w 380880"/>
              <a:gd name="textAreaTop" fmla="*/ 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94320" y="5638680"/>
            <a:ext cx="9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TER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23800" y="4800600"/>
            <a:ext cx="27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ONTATTO INDIRE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Book Antiqua"/>
              </a:rPr>
              <a:t>Realizzazione impianti elettrici</a:t>
            </a:r>
            <a:endParaRPr b="0" i="1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1371600"/>
            <a:ext cx="20700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pianti di messa a t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-1080" y="3276720"/>
            <a:ext cx="2517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e cosa succe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caso di contat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iretto per gua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 l’impianto di mes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 terra è ver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fficiente la tens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i contatto, e quindi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rrente che attrave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l corpo, è min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514600" y="2209680"/>
            <a:ext cx="3911400" cy="2895120"/>
            <a:chOff x="2514600" y="2209680"/>
            <a:chExt cx="3911400" cy="2895120"/>
          </a:xfrm>
        </p:grpSpPr>
        <p:pic>
          <p:nvPicPr>
            <p:cNvPr id="147" name="" descr=""/>
            <p:cNvPicPr/>
            <p:nvPr/>
          </p:nvPicPr>
          <p:blipFill>
            <a:blip r:embed="rId1"/>
            <a:stretch/>
          </p:blipFill>
          <p:spPr>
            <a:xfrm>
              <a:off x="3117960" y="2950200"/>
              <a:ext cx="1810080" cy="14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2"/>
            <a:stretch/>
          </p:blipFill>
          <p:spPr>
            <a:xfrm>
              <a:off x="4391640" y="2209680"/>
              <a:ext cx="1934280" cy="22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648520" y="3691080"/>
              <a:ext cx="167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2648160" y="4027680"/>
              <a:ext cx="1608840" cy="740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257360" y="3691080"/>
              <a:ext cx="0" cy="33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514600" y="4835880"/>
              <a:ext cx="334800" cy="134280"/>
              <a:chOff x="2514600" y="4835880"/>
              <a:chExt cx="334800" cy="134280"/>
            </a:xfrm>
          </p:grpSpPr>
          <p:sp>
            <p:nvSpPr>
              <p:cNvPr id="153" name=""/>
              <p:cNvSpPr/>
              <p:nvPr/>
            </p:nvSpPr>
            <p:spPr>
              <a:xfrm>
                <a:off x="2514600" y="4835880"/>
                <a:ext cx="3348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" name=""/>
              <p:cNvGrpSpPr/>
              <p:nvPr/>
            </p:nvGrpSpPr>
            <p:grpSpPr>
              <a:xfrm>
                <a:off x="2581560" y="4903200"/>
                <a:ext cx="200880" cy="66960"/>
                <a:chOff x="2581560" y="4903200"/>
                <a:chExt cx="200880" cy="6696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581560" y="4903200"/>
                  <a:ext cx="20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648160" y="4970160"/>
                  <a:ext cx="669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7" name=""/>
            <p:cNvSpPr/>
            <p:nvPr/>
          </p:nvSpPr>
          <p:spPr>
            <a:xfrm>
              <a:off x="2693520" y="3329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24920" y="4699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55240" y="3287160"/>
              <a:ext cx="737640" cy="740520"/>
            </a:xfrm>
            <a:prstGeom prst="irregularSeal2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391640" y="2815200"/>
              <a:ext cx="669960" cy="33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61960" y="2815560"/>
              <a:ext cx="335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397480" y="2815560"/>
              <a:ext cx="737280" cy="208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6000840" y="4970520"/>
              <a:ext cx="334800" cy="134280"/>
              <a:chOff x="6000840" y="4970520"/>
              <a:chExt cx="334800" cy="134280"/>
            </a:xfrm>
          </p:grpSpPr>
          <p:sp>
            <p:nvSpPr>
              <p:cNvPr id="164" name=""/>
              <p:cNvSpPr/>
              <p:nvPr/>
            </p:nvSpPr>
            <p:spPr>
              <a:xfrm>
                <a:off x="6000840" y="4970520"/>
                <a:ext cx="3348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6067800" y="5037840"/>
                <a:ext cx="200880" cy="66960"/>
                <a:chOff x="6067800" y="5037840"/>
                <a:chExt cx="200880" cy="669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067800" y="5037840"/>
                  <a:ext cx="20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134400" y="5104800"/>
                  <a:ext cx="669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8" name=""/>
            <p:cNvSpPr/>
            <p:nvPr/>
          </p:nvSpPr>
          <p:spPr>
            <a:xfrm>
              <a:off x="6114240" y="4473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4324680" y="3152160"/>
              <a:ext cx="66960" cy="161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4123440" y="4835880"/>
              <a:ext cx="334800" cy="134280"/>
              <a:chOff x="4123440" y="4835880"/>
              <a:chExt cx="334800" cy="134280"/>
            </a:xfrm>
          </p:grpSpPr>
          <p:sp>
            <p:nvSpPr>
              <p:cNvPr id="171" name=""/>
              <p:cNvSpPr/>
              <p:nvPr/>
            </p:nvSpPr>
            <p:spPr>
              <a:xfrm>
                <a:off x="4123440" y="4835880"/>
                <a:ext cx="3348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4190400" y="4903200"/>
                <a:ext cx="200880" cy="66960"/>
                <a:chOff x="4190400" y="4903200"/>
                <a:chExt cx="200880" cy="669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4190400" y="4903200"/>
                  <a:ext cx="20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257000" y="4970160"/>
                  <a:ext cx="6696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5" name=""/>
            <p:cNvSpPr/>
            <p:nvPr/>
          </p:nvSpPr>
          <p:spPr>
            <a:xfrm>
              <a:off x="4369680" y="4473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 Antiqu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6781320" y="2362320"/>
            <a:ext cx="1828800" cy="2743200"/>
            <a:chOff x="6781320" y="2362320"/>
            <a:chExt cx="1828800" cy="2743200"/>
          </a:xfrm>
        </p:grpSpPr>
        <p:sp>
          <p:nvSpPr>
            <p:cNvPr id="177" name=""/>
            <p:cNvSpPr/>
            <p:nvPr/>
          </p:nvSpPr>
          <p:spPr>
            <a:xfrm>
              <a:off x="7391160" y="2362320"/>
              <a:ext cx="685800" cy="2743200"/>
            </a:xfrm>
            <a:prstGeom prst="downArrow">
              <a:avLst>
                <a:gd name="adj1" fmla="val 50000"/>
                <a:gd name="adj2" fmla="val 100000"/>
              </a:avLst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5400000">
              <a:off x="7924320" y="3048120"/>
              <a:ext cx="685800" cy="68580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6780960" y="3581640"/>
              <a:ext cx="1143000" cy="533520"/>
            </a:xfrm>
            <a:custGeom>
              <a:avLst/>
              <a:gdLst>
                <a:gd name="textAreaLeft" fmla="*/ -360 w 1143000"/>
                <a:gd name="textAreaRight" fmla="*/ 1143000 w 1143000"/>
                <a:gd name="textAreaTop" fmla="*/ 360 h 533520"/>
                <a:gd name="textAreaBottom" fmla="*/ 5342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9260" stAng="10800000" swAng="5400000"/>
                  <a:lnTo>
                    <a:pt x="15100" y="2900"/>
                  </a:lnTo>
                  <a:lnTo>
                    <a:pt x="15100" y="0"/>
                  </a:lnTo>
                  <a:lnTo>
                    <a:pt x="21600" y="6079"/>
                  </a:lnTo>
                  <a:lnTo>
                    <a:pt x="15100" y="12158"/>
                  </a:lnTo>
                  <a:lnTo>
                    <a:pt x="15100" y="9258"/>
                  </a:lnTo>
                  <a:lnTo>
                    <a:pt x="12427" y="9258"/>
                  </a:lnTo>
                  <a:arcTo wR="6069" hR="2902" stAng="16200000" swAng="-5400000"/>
                  <a:lnTo>
                    <a:pt x="6358" y="2160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6792840" y="1371600"/>
            <a:ext cx="235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orrente assorb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dalla r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848720" y="3733920"/>
            <a:ext cx="1295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orrente 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ttrave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il cor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17720" y="5257800"/>
            <a:ext cx="259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orrente dispe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dall’impianto a ter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12360" y="2695680"/>
            <a:ext cx="165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orrente d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ritorno su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r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9880" y="3276720"/>
            <a:ext cx="838440" cy="761760"/>
          </a:xfrm>
          <a:prstGeom prst="irregularSeal2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Book Antiqua"/>
              </a:rPr>
              <a:t>Impianto elettrico</a:t>
            </a:r>
            <a:endParaRPr b="0" i="1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33520" y="1523880"/>
            <a:ext cx="2743200" cy="4267440"/>
            <a:chOff x="533520" y="1523880"/>
            <a:chExt cx="2743200" cy="4267440"/>
          </a:xfrm>
        </p:grpSpPr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533520" y="1523880"/>
              <a:ext cx="2743200" cy="426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1757160" y="3657600"/>
              <a:ext cx="297000" cy="52092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707840" y="2464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59320" y="432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4191120" y="1447920"/>
            <a:ext cx="3581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ook Antiqua"/>
              </a:rPr>
              <a:t>All’ingresso dell’ufficio deve ess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Book Antiqua"/>
              </a:rPr>
              <a:t>sempre installato 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Book Antiqua"/>
              </a:rPr>
              <a:t>buon interruto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ook Antiqua"/>
              </a:rPr>
              <a:t>automatico che è consigliabile 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Book Antiqua"/>
              </a:rPr>
              <a:t>integrato da protezione salvavi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90720" y="1600200"/>
            <a:ext cx="7543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Un impianto sicuro deve essere sempre corredato di un impia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di terra efficiente, che deve arrivare a tutti i punt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di alimentazione (prese, punti luce,..) ed alle parti metall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da proteggere (bagni, docce, lavandin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Un collegamento “a terra “ realizzato come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figura al lato, (collegamento al rubinetto dell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acqua), non è assolutamente sicuro e, in ca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di guasto dell’apparecchio, può ess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pericoloso per gli altri utenti dell’acquedot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696080" y="2895480"/>
            <a:ext cx="876600" cy="9907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7848720" y="3365640"/>
            <a:ext cx="596880" cy="1815840"/>
          </a:xfrm>
          <a:custGeom>
            <a:avLst/>
            <a:gdLst/>
            <a:ahLst/>
            <a:rect l="l" t="t" r="r" b="b"/>
            <a:pathLst>
              <a:path w="376" h="1144">
                <a:moveTo>
                  <a:pt x="0" y="1144"/>
                </a:moveTo>
                <a:cubicBezTo>
                  <a:pt x="148" y="1108"/>
                  <a:pt x="296" y="1072"/>
                  <a:pt x="336" y="904"/>
                </a:cubicBezTo>
                <a:cubicBezTo>
                  <a:pt x="376" y="736"/>
                  <a:pt x="264" y="272"/>
                  <a:pt x="240" y="136"/>
                </a:cubicBezTo>
                <a:cubicBezTo>
                  <a:pt x="216" y="0"/>
                  <a:pt x="192" y="88"/>
                  <a:pt x="192" y="88"/>
                </a:cubicBezTo>
                <a:cubicBezTo>
                  <a:pt x="192" y="88"/>
                  <a:pt x="216" y="112"/>
                  <a:pt x="240" y="1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629400" y="3962520"/>
            <a:ext cx="1530360" cy="2141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8381880" y="5257800"/>
            <a:ext cx="228600" cy="304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458200" y="5334120"/>
            <a:ext cx="7632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077320" y="5410080"/>
            <a:ext cx="596880" cy="533520"/>
          </a:xfrm>
          <a:custGeom>
            <a:avLst/>
            <a:gdLst/>
            <a:ahLst/>
            <a:rect l="l" t="t" r="r" b="b"/>
            <a:pathLst>
              <a:path w="376" h="336">
                <a:moveTo>
                  <a:pt x="240" y="0"/>
                </a:moveTo>
                <a:cubicBezTo>
                  <a:pt x="308" y="92"/>
                  <a:pt x="376" y="184"/>
                  <a:pt x="336" y="240"/>
                </a:cubicBezTo>
                <a:cubicBezTo>
                  <a:pt x="296" y="296"/>
                  <a:pt x="56" y="320"/>
                  <a:pt x="0" y="33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2600" y="3279600"/>
            <a:ext cx="94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57640" y="428760"/>
            <a:ext cx="354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Impianto elettr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838080" y="1600200"/>
            <a:ext cx="7391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Nell’acquisto di apparecchi e materiali elettrici in genere è sempre opportuno accertarsi che siano muniti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archio di Qualità”. Il “Marchio” garantisce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ispondenza dei materiali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degli apparecchi alle nor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.E.I. (Comitato Elettrotec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Italiano) e quindi ne conferma 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aratteristiche di sicurezz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Gli utilizzatori muniti di “doppio isolamento” sono distinguibili dal simbolo: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riportato dal costruttore sulla targhetta dell’apparecchio. Tali apparecchi, se mantenuti efficienti, sono sicuri e non necessitano di collegamento a ter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91320" y="525780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362320" y="4267080"/>
            <a:ext cx="838080" cy="838080"/>
            <a:chOff x="2362320" y="4267080"/>
            <a:chExt cx="838080" cy="838080"/>
          </a:xfrm>
        </p:grpSpPr>
        <p:sp>
          <p:nvSpPr>
            <p:cNvPr id="204" name=""/>
            <p:cNvSpPr/>
            <p:nvPr/>
          </p:nvSpPr>
          <p:spPr>
            <a:xfrm>
              <a:off x="2362320" y="4267080"/>
              <a:ext cx="838080" cy="838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90920" y="4495680"/>
              <a:ext cx="380880" cy="3808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6" name="cei" descr=""/>
          <p:cNvPicPr/>
          <p:nvPr/>
        </p:nvPicPr>
        <p:blipFill>
          <a:blip r:embed="rId1"/>
          <a:stretch/>
        </p:blipFill>
        <p:spPr>
          <a:xfrm>
            <a:off x="6095880" y="2133720"/>
            <a:ext cx="1676520" cy="156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213640" y="380880"/>
            <a:ext cx="37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Utilizzatori elettric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 algn="ctr"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Book Antiqua"/>
              </a:rPr>
              <a:t>Esercizio impianti elettrici</a:t>
            </a:r>
            <a:endParaRPr b="0" i="1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09" name=""/>
          <p:cNvSpPr/>
          <p:nvPr/>
        </p:nvSpPr>
        <p:spPr>
          <a:xfrm>
            <a:off x="674640" y="2909880"/>
            <a:ext cx="2079720" cy="130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rima di effettuare qualsiasi lavoro occor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683240" y="2071800"/>
            <a:ext cx="389232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ogliere ten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83240" y="2833560"/>
            <a:ext cx="3892320" cy="82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nterrompere visibilmente il circu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83240" y="4091040"/>
            <a:ext cx="3892320" cy="45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Esporre degli avvi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83240" y="4929120"/>
            <a:ext cx="3892320" cy="11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solare e mettere a terra le parti interess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854440" y="3269880"/>
            <a:ext cx="1606320" cy="22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54440" y="3778200"/>
            <a:ext cx="160632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01880" y="4083120"/>
            <a:ext cx="1658880" cy="113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890800" y="2374560"/>
            <a:ext cx="1569960" cy="83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33880" y="1231920"/>
            <a:ext cx="3160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Manovre di fuori serviz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7626600" cy="117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Book Antiqua"/>
              </a:rPr>
              <a:t>Utensili elettrici portatili</a:t>
            </a:r>
            <a:endParaRPr b="0" i="1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8480" y="228600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-33012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prima di usare utensili, apparecchi o macchine alimentate elettricamente, è </a:t>
            </a:r>
            <a:r>
              <a:rPr b="1" i="1" lang="it-IT" sz="2000" spc="-1" strike="noStrike" u="sng">
                <a:solidFill>
                  <a:srgbClr val="000000"/>
                </a:solidFill>
                <a:uFillTx/>
                <a:latin typeface="Book Antiqua"/>
              </a:rPr>
              <a:t>obbligatorio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 assicurarsi che i cavi per l’alimentazione abbiano il rivestimento isolante in perfette condizioni e che le prese e le spine non siano difettos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avere cura affinchè i conduttori elettrici flessibili usati per l’alimentazione degli apparecchi e delle macchine mobili o portatili non intralcino il passaggio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1" name=""/>
          <p:cNvSpPr/>
          <p:nvPr/>
        </p:nvSpPr>
        <p:spPr>
          <a:xfrm>
            <a:off x="2756160" y="1251000"/>
            <a:ext cx="4201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Misure generali prima dell’utilizz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Book Antiqua"/>
              </a:rPr>
              <a:t>La sicurezza negli uffici</a:t>
            </a:r>
            <a:endParaRPr b="0" i="1" lang="en-US" sz="28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26640" y="2173320"/>
            <a:ext cx="762660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-33012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I lavori di ufficio non sono esenti da rischi (cadute, scivolate, tagli, elettrocuzioni, scottature, ecc.)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 algn="just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 algn="just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Per la propria ed altrui sicurezza attenersi alle più elementari norme di prudenza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14400" y="2209320"/>
            <a:ext cx="7626240" cy="41245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0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Durante l’uso è necessario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99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usare i mezzi di protezione previsti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non sottoporre i cavi di alimentazione a torsione, piegamenti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non poggiare il cavo su spigoli vivi o su materiali caldi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ridurre al minimo lo sviluppo libero del cavo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non eseguire collegamenti di fortuna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380520" y="228600"/>
            <a:ext cx="762660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Book Antiqua"/>
              </a:rPr>
              <a:t>Utensili elettrici portatili</a:t>
            </a:r>
            <a:endParaRPr b="0" i="1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4" name=""/>
          <p:cNvSpPr/>
          <p:nvPr/>
        </p:nvSpPr>
        <p:spPr>
          <a:xfrm>
            <a:off x="3822480" y="1251000"/>
            <a:ext cx="2049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Misure gener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Book Antiqua"/>
              </a:rPr>
              <a:t>La sicurezza negli uffici</a:t>
            </a:r>
            <a:endParaRPr b="0" i="1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6" name=""/>
          <p:cNvSpPr/>
          <p:nvPr/>
        </p:nvSpPr>
        <p:spPr>
          <a:xfrm>
            <a:off x="460440" y="1380960"/>
            <a:ext cx="869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I rischi elettrici possono essere evitati seguendo elementari norme di prud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2120" y="1828800"/>
            <a:ext cx="8008920" cy="41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Inserire e togliere le spine afferrando sempre il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orpo isolante, evitando di toccare gli spinot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Non fare tale operazione con mani sudate o bagn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20Sì" descr=""/>
          <p:cNvPicPr/>
          <p:nvPr/>
        </p:nvPicPr>
        <p:blipFill>
          <a:blip r:embed="rId1"/>
          <a:stretch/>
        </p:blipFill>
        <p:spPr>
          <a:xfrm>
            <a:off x="6248520" y="3429000"/>
            <a:ext cx="2303280" cy="1987560"/>
          </a:xfrm>
          <a:prstGeom prst="rect">
            <a:avLst/>
          </a:prstGeom>
          <a:ln w="0">
            <a:noFill/>
          </a:ln>
        </p:spPr>
      </p:pic>
      <p:pic>
        <p:nvPicPr>
          <p:cNvPr id="229" name="20no" descr=""/>
          <p:cNvPicPr/>
          <p:nvPr/>
        </p:nvPicPr>
        <p:blipFill>
          <a:blip r:embed="rId2"/>
          <a:stretch/>
        </p:blipFill>
        <p:spPr>
          <a:xfrm>
            <a:off x="914400" y="1981080"/>
            <a:ext cx="2451240" cy="204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0"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00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Non rimuovere i contatti del collegamento a 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terra delle spine, poichè in tal modo si annulla 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la protezione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Non allacciare un apparecchio di potenza 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elevata ad una presa qualsiasi, servendosi di 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riduzioni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Evitare, inoltre, di effettuare collegamenti provvisori di 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pparecchiature elettriche, lampade, ecc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Book Antiqua"/>
              </a:rPr>
              <a:t>La sicurezza negli uffici</a:t>
            </a:r>
            <a:endParaRPr b="0" i="1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32" name=""/>
          <p:cNvSpPr/>
          <p:nvPr/>
        </p:nvSpPr>
        <p:spPr>
          <a:xfrm>
            <a:off x="460440" y="1380960"/>
            <a:ext cx="869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I rischi elettrici possono essere evitati seguendo elementari norme di prud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21" descr=""/>
          <p:cNvPicPr/>
          <p:nvPr/>
        </p:nvPicPr>
        <p:blipFill>
          <a:blip r:embed="rId1"/>
          <a:stretch/>
        </p:blipFill>
        <p:spPr>
          <a:xfrm>
            <a:off x="914400" y="2057400"/>
            <a:ext cx="2666880" cy="22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Book Antiqua"/>
              </a:rPr>
              <a:t>La sicurezza negli uffici</a:t>
            </a:r>
            <a:endParaRPr b="0" i="1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pic>
        <p:nvPicPr>
          <p:cNvPr id="235" name="22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2646360" cy="41101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3048120" y="1600200"/>
            <a:ext cx="57909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l tipo di spina riportato a lato, i cui contatti di terra sono posti ai lati sul corpo isolante, è riscontrabile su molti tipi di apparecchi di importazione. L’inserimento nelle prese di produzione nazionale non consente il collegamento a terra dell’apparecchio. E’ quindi consigliabile sostituire tali spine con altre di produzione nazionale  munite di spinotto centrale di terra. Il suo corretto impiego è comunque possibile con un adattatore che assicuri il collegamento a “terra” dell’apparecchio in u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6000"/>
          </a:bodyPr>
          <a:p>
            <a:pPr marL="31680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1680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1680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Non usare mai prese multiple collegate tra loro 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onde evitare cortocircuiti con conseguente 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pericolo 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d’incendio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1680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1680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1680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1680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Impiegare, se necessario, prese multiple idonee, facendo comunque attenzione ad evitare sovraccarichi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1680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Le prese multiple (ciabatte) non devono avere più di 5 pres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1680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Non effettuare collegamenti di apparecchi utilizzatori direttamente a portalampade.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Book Antiqua"/>
              </a:rPr>
              <a:t>La sicurezza negli uffici</a:t>
            </a:r>
            <a:endParaRPr b="0" i="1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39" name=""/>
          <p:cNvSpPr/>
          <p:nvPr/>
        </p:nvSpPr>
        <p:spPr>
          <a:xfrm>
            <a:off x="460440" y="1380960"/>
            <a:ext cx="869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I rischi elettrici possono essere evitati seguendo elementari norme di prud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23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2590560" cy="223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24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2523960" cy="49622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2971800" y="1676520"/>
            <a:ext cx="58672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Non fare uso di scale semplici o doppie spovviste di zoccoli antisdrucciolo o non assicurate contro gli spostamenti. Non collocare le scale semplici contro appoggi non sicuri (spigoli, colonne tonde, ecc.) o in corrispondenza di por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Salire e scender con il viso rivolto verso la scala e con le mani libere per potersi tene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Non usare calzature (pantofole, zoccoli) che non diano sicuro appoggio al pie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Evitare di salire sugli ultimi pioli e non spostarsi eccessivamente di la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189800" y="282600"/>
            <a:ext cx="47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La sicurezza negli uffic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25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206800" cy="44276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895480" y="1371600"/>
            <a:ext cx="5715000" cy="53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Nel trasportare materiali ed oggetti che possono essere causa di lesioni alle mani (vetri, oggetti di metallo, ecc.) fare uso di appropriati guant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Il sollevamento ed il trasporto di mobili, casse ed oggetti pesanti ed ingombranti, oltre a poter essere causa di caduta della persone o delle cose, espone al rischio di lesioni da sforz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Per sollevare carichi pesanti non piegare la schie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Prima di trasportare carichi verificare che non vi siano ostacoli contro i quali si potrebbe inciampare od urt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Fare in modo che il carico non ostacoli la vis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Per trascinare e spingere mobili pesanti porvi sotto dei tappetini,  pattino od altro che ne faciliti lo scorrim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571040" y="282600"/>
            <a:ext cx="47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La sicurezza negli uffic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Dovendo utilizzare lampade portatili, non “arrangiarsi”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a impiegare sempre quelle dotate di idonei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sistemi di sicurezza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Book Antiqua"/>
              </a:rPr>
              <a:t>La sicurezza negli uffici</a:t>
            </a:r>
            <a:endParaRPr b="0" i="1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49" name=""/>
          <p:cNvSpPr/>
          <p:nvPr/>
        </p:nvSpPr>
        <p:spPr>
          <a:xfrm>
            <a:off x="460440" y="1380960"/>
            <a:ext cx="869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I rischi elettrici possono essere evitati seguendo elementari norme di prud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27" descr=""/>
          <p:cNvPicPr/>
          <p:nvPr/>
        </p:nvPicPr>
        <p:blipFill>
          <a:blip r:embed="rId1"/>
          <a:stretch/>
        </p:blipFill>
        <p:spPr>
          <a:xfrm>
            <a:off x="6640560" y="3048120"/>
            <a:ext cx="1692360" cy="23778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1706400" y="3429000"/>
            <a:ext cx="1570320" cy="4478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914400" y="1828800"/>
            <a:ext cx="1042920" cy="1143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308240" y="2971800"/>
            <a:ext cx="672840" cy="520560"/>
          </a:xfrm>
          <a:custGeom>
            <a:avLst/>
            <a:gdLst/>
            <a:ahLst/>
            <a:rect l="l" t="t" r="r" b="b"/>
            <a:pathLst>
              <a:path w="424" h="328">
                <a:moveTo>
                  <a:pt x="88" y="0"/>
                </a:moveTo>
                <a:cubicBezTo>
                  <a:pt x="44" y="84"/>
                  <a:pt x="0" y="168"/>
                  <a:pt x="40" y="192"/>
                </a:cubicBezTo>
                <a:cubicBezTo>
                  <a:pt x="80" y="216"/>
                  <a:pt x="296" y="168"/>
                  <a:pt x="328" y="144"/>
                </a:cubicBezTo>
                <a:cubicBezTo>
                  <a:pt x="360" y="120"/>
                  <a:pt x="264" y="24"/>
                  <a:pt x="232" y="48"/>
                </a:cubicBezTo>
                <a:cubicBezTo>
                  <a:pt x="200" y="72"/>
                  <a:pt x="120" y="248"/>
                  <a:pt x="136" y="288"/>
                </a:cubicBezTo>
                <a:cubicBezTo>
                  <a:pt x="152" y="328"/>
                  <a:pt x="280" y="288"/>
                  <a:pt x="328" y="288"/>
                </a:cubicBezTo>
                <a:cubicBezTo>
                  <a:pt x="376" y="288"/>
                  <a:pt x="400" y="288"/>
                  <a:pt x="424" y="28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47920" y="2971800"/>
            <a:ext cx="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82880" y="21337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48520" y="340524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Book Antiqua"/>
              </a:rPr>
              <a:t>SI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907560" y="1676520"/>
            <a:ext cx="762660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Disalimentare ogni macchina dopo l’uso e comunque alla fine della giornata lavorativa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Non rimuovere le coperture predisposte dal costruttore sulle parti mobili delle macchine; tali coperture possono essere momentaneamente rimosse solo dal personale specializzato in occasione di ispezioni o manutenzione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Non operare all’interno di telescriventi, stampanti, ecc. mentre sono in azione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Osservare le prescrizioni del costruttore, evitare spandimenti e lavarsi le mani al termine delle operazioni, nel maneggio del toner delle fotocopiatrici o di parti in contatto con esso.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8" name=""/>
          <p:cNvSpPr/>
          <p:nvPr/>
        </p:nvSpPr>
        <p:spPr>
          <a:xfrm>
            <a:off x="1508040" y="1190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14960" y="282600"/>
            <a:ext cx="606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Impiego di macchine da uffi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792720" y="358920"/>
            <a:ext cx="606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Impiego di macchine da uffi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Leggere attentamente le istruzioni del costruttore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Posizionare i video termunali ad altezza corretta ed in modo che sullo schermo non vi siano riflessi di finestre o lampade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Disporre sul tavolo lo schermo, la tastiera e i fogli in modo che l’elemento più consultato (foglio o vodeo) sia possibilmente di fronte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Installare le macchine per la riproduzione in luoghi sufficientemente areati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Evitare che i cavi siano posti disordinatamente e comunque non in zone di passaggio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99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10200" y="1371600"/>
            <a:ext cx="418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 più comuni rischi in ufficio so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22240" y="2028960"/>
            <a:ext cx="7559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Cadute provocate da scivolate su pavimenti troppo lucidi o    bagnati o cadute dovute ad ostacol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Cattiva utilizzazione di piccoli utensili (forbici, tagliacarta,    spillatrici, ec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Incidenti dovuti al fuoco (cenere, sigarette accese nei cestini della carta ec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Incidenti di manutenzione (manutenzione delle fotocopiatrici, pacchi di carta, ec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Incidenti di origine elettrica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33720" y="304920"/>
            <a:ext cx="526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l fenomeno infortunisti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249920" y="358920"/>
            <a:ext cx="606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Impiego di macchine da uffi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Segnalare al personale specializzato l’abrasione o la fessurazione nei cavi di alimentazione evitandone l’uso. 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Segnalare al personale specializzato l’abrasione o la fessurazione nei cavi di alimentazione evitandone l’usofino al momento della sostituzione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Non eseguire modifiche o collegamenti di fortuna alle spine di alimentazione delle macchine né usare prolunghe inadeguate.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-33012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Staccare le spine dalle prese, agendo sulle spine stesse e non sul cavo di alimentazione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Il meccanismo di fissaggio del toner sulla carta opera ad una temperatura molto elevata (potenza di emissione circa 5 MW)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Fare molta attenzione durante qualsiasi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operazione di normale manutenzione o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riparazione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Book Antiqua"/>
              </a:rPr>
              <a:t>La sicurezza negli uffici</a:t>
            </a:r>
            <a:endParaRPr b="0" i="1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6" name=""/>
          <p:cNvSpPr/>
          <p:nvPr/>
        </p:nvSpPr>
        <p:spPr>
          <a:xfrm>
            <a:off x="430560" y="1380960"/>
            <a:ext cx="8592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e scottature possono essere evitate seguendo elementari norme di prud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3040200" cy="24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prire lentamente le porte in modo da non urtar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e persone che possono trovarsi dall’altra part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Evitare di correre per i corridoi e quando si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utilizzano le scale, percorrendo le quali ci si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dovrà sempre tenere saldamente al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orrimano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Book Antiqua"/>
              </a:rPr>
              <a:t>La sicurezza negli uffici</a:t>
            </a:r>
            <a:endParaRPr b="0" i="1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3" name=""/>
          <p:cNvSpPr/>
          <p:nvPr/>
        </p:nvSpPr>
        <p:spPr>
          <a:xfrm>
            <a:off x="726480" y="1339920"/>
            <a:ext cx="8382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Gli incidenti possono essere evitati seguendo elementari norme di prud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400800" y="3200400"/>
            <a:ext cx="1042920" cy="1968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143000" y="1905120"/>
            <a:ext cx="1447920" cy="213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62120" y="1752120"/>
            <a:ext cx="7626240" cy="41245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Non lasciare aperti i cassetti contro i quali si possa urtar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Non salire mai su sedie e cassetti aperti ma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usare le apposite scal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           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prire un cassetto classificatore dopo aver         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controllato che gli altri siano chiusi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Book Antiqua"/>
              </a:rPr>
              <a:t>La sicurezza negli uffici</a:t>
            </a:r>
            <a:endParaRPr b="0" i="1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"/>
          <p:cNvSpPr/>
          <p:nvPr/>
        </p:nvSpPr>
        <p:spPr>
          <a:xfrm>
            <a:off x="666000" y="1295280"/>
            <a:ext cx="8382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Gli incidenti possono essere evitati seguendo elementari norme di prud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324480" y="2514600"/>
            <a:ext cx="2210040" cy="1860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371600" y="3733920"/>
            <a:ext cx="1905120" cy="160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Non trasportare oggetti troppo pesanti o voluminosi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3012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"/>
          <p:cNvSpPr/>
          <p:nvPr/>
        </p:nvSpPr>
        <p:spPr>
          <a:xfrm>
            <a:off x="726480" y="1339920"/>
            <a:ext cx="8382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Gli incidenti possono essere evitati seguendo elementari norme di prud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Book Antiqua"/>
              </a:rPr>
              <a:t>La sicurezza negli uffici</a:t>
            </a:r>
            <a:endParaRPr b="0" i="1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705720" y="2362320"/>
            <a:ext cx="1861920" cy="1763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43000" y="3657600"/>
            <a:ext cx="1843200" cy="1981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388320" y="4419720"/>
            <a:ext cx="47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Mantenere i pavimenti, i corridoi o le s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liberi da ostaco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Book Antiqua"/>
              </a:rPr>
              <a:t>La sicurezza negli uffici</a:t>
            </a:r>
            <a:endParaRPr b="0" i="1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"/>
          <p:cNvSpPr/>
          <p:nvPr/>
        </p:nvSpPr>
        <p:spPr>
          <a:xfrm>
            <a:off x="726480" y="1339920"/>
            <a:ext cx="8382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Gli incidenti possono essere evitati seguendo elementari norme di prud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2160" y="1676520"/>
            <a:ext cx="7626240" cy="412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8000"/>
          </a:bodyPr>
          <a:p>
            <a:pPr marL="32328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2328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Non lasciare tappeti, passatoie usate, strappat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2328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o con i bordi sollevati, si può cader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2328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2328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2328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2328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2328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2328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Riporre giudiziosamente gli oggetti mobili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2328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(pacchi, risme di carta, radiatori portatili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2328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cestini, ecc.)  in  modo  da  non  creare 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23280" indent="0">
              <a:spcBef>
                <a:spcPts val="451"/>
              </a:spcBef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                      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ostacoli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323280" indent="0">
              <a:spcBef>
                <a:spcPts val="451"/>
              </a:spcBef>
              <a:buNone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324480" y="1981080"/>
            <a:ext cx="2133720" cy="1997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914400" y="2892600"/>
            <a:ext cx="2666880" cy="249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44440" y="1828800"/>
            <a:ext cx="7626600" cy="41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Non lasciare pozze d’acqua o liquidi su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pavimento, ma asciugare con una spug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Usare correttamente forbici, tagliacarte, pinzatr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ed altri mezzi appuntiti o taglienti: ogni attrezz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deve essere usato per la sua funz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Book Antiqua"/>
              </a:rPr>
              <a:t>La sicurezza negli uffici</a:t>
            </a:r>
            <a:endParaRPr b="0" i="1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"/>
          <p:cNvSpPr/>
          <p:nvPr/>
        </p:nvSpPr>
        <p:spPr>
          <a:xfrm>
            <a:off x="726480" y="1339920"/>
            <a:ext cx="8382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Gli incidenti possono essere evitati seguendo elementari norme di prud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1636560" cy="18288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726240" y="3505320"/>
            <a:ext cx="1798560" cy="206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2160" y="271440"/>
            <a:ext cx="7626240" cy="11764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indent="0" algn="ctr"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Book Antiqua"/>
              </a:rPr>
              <a:t>La sicurezza negli uffici</a:t>
            </a:r>
            <a:endParaRPr b="0" i="1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"/>
          <p:cNvSpPr/>
          <p:nvPr/>
        </p:nvSpPr>
        <p:spPr>
          <a:xfrm>
            <a:off x="726480" y="1339920"/>
            <a:ext cx="8382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Gli incidenti possono essere evitati seguendo elementari norme di prud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66680" y="1981080"/>
            <a:ext cx="7626600" cy="41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noAutofit/>
          </a:bodyPr>
          <a:p>
            <a:pPr marL="330120" indent="-330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Non riporre nelle tasche dei grembiuli oggetti appuntiti o tagli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Evitare di toccarsi gli occhi nel maneggio di fogli trasparenti (acetati) e lavarsi le mani al termine del lavo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Non gettare mozziconi di sigaretta nel cestino dei rifi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Non gettare, alla rinfusa, nel cestino dei rifiuti i vetri rotti od altri oggetti appuntiti o taglienti; riporli in evidenza ed in modo che non siano pericolo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0120" indent="-330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01T17:22:40Z</dcterms:created>
  <dc:creator>Nicchi</dc:creator>
  <dc:description/>
  <dc:language>en-US</dc:language>
  <cp:lastModifiedBy>ELIS</cp:lastModifiedBy>
  <cp:lastPrinted>1995-12-02T09:17:00Z</cp:lastPrinted>
  <dcterms:modified xsi:type="dcterms:W3CDTF">1998-01-22T17:46:06Z</dcterms:modified>
  <cp:revision>20</cp:revision>
  <dc:subject/>
  <dc:title>La sicurezza negli uffici</dc:title>
</cp:coreProperties>
</file>