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84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216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84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2160" y="271440"/>
            <a:ext cx="762624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65880" y="6316560"/>
            <a:ext cx="25542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uropa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47760" cy="839880"/>
          </a:xfrm>
          <a:prstGeom prst="rect">
            <a:avLst/>
          </a:prstGeom>
          <a:ln w="0">
            <a:noFill/>
          </a:ln>
        </p:spPr>
      </p:pic>
      <p:pic>
        <p:nvPicPr>
          <p:cNvPr id="4" name="europa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247760" cy="8398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626560" y="6248520"/>
            <a:ext cx="65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stemi elettrici e messa a terra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istemi elettrici secondo la tensione ed il loro modo di collegamento a ter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762660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Tipi di conduttori di prote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2000"/>
          </a:bodyPr>
          <a:p>
            <a:pPr marL="315360" indent="-315360">
              <a:lnSpc>
                <a:spcPct val="119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ossono essere usati come conduttori di prote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9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Dutch801SWC"/>
              </a:rPr>
              <a:t>‑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nime di cavi multipo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9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Dutch801SWC"/>
              </a:rPr>
              <a:t>‑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duttori nudi o cavi unipolari (anche senza guaina) facenti parte, con i conduttori attivi, di una stessa condut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9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Dutch801SWC"/>
              </a:rPr>
              <a:t>‑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duttori nudi o cavi unipolari (anche senza guaina) non facenti parte, con i conduttori attivi, della stessa condut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9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Dutch801SWC"/>
              </a:rPr>
              <a:t>‑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volucri metallici, per es. guaine, schermi e armature di alcuni cavi (ulteriori prescrizioni sono allo stud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9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Dutch801SWC"/>
              </a:rPr>
              <a:t>‑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ubi protettivi e canali metallici od altri involucri metallici per conduttori (quali rivestimenti metallici ed armature di cav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19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Dutch801SWC"/>
              </a:rPr>
              <a:t>‑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sse estranee di adeguate caratteris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76680" y="152280"/>
            <a:ext cx="762660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Tipi di conduttori di protezione (segue)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39480" indent="-339480">
              <a:lnSpc>
                <a:spcPct val="106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 l'impianto contiene involucri o strutture metalliche di quadri, di condutture costruite in fabbrica o di altre apparecchiature costruite in fabbrica, questi involucri o strutture possono essere usati come conduttori di protezione se soddisfano le tre seguenti condi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6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loro continuità elettrica sia realizzata in modo da assicurare la protezione contro il danneggiamento meccanico, chimico o elettrochi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6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conduttanza sia almeno uguale a quella risultante dall'ap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6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a possibile la connessione di altri conduttori di protezione nei punti predisposti per la deriv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Tipi di conduttori di protezione (segue)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 algn="just">
              <a:lnSpc>
                <a:spcPct val="148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rivestimenti metallici, comprese le guaine (nude od isolate) di alcune condutture, in particolare le guaine dei cavi con isolamento minerale, ed alcuni tubi protettivi e canali metallici (tipi allo studio) possono essere utilizzati come conduttori di protezione per i circuiti corrispondenti se soddisfano entrambe le prescrizioni 1 e 2 della precedente slide. Se non soddisfano tali condizioni non devono essere utilizzati come conduttori di prote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Tipi di conduttori di protezione (segu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626240" cy="412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1000"/>
          </a:bodyPr>
          <a:p>
            <a:pPr marL="312120" indent="-312120">
              <a:lnSpc>
                <a:spcPct val="8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masse estranee possono essere usate come conduttori di protezione se soddisfano tutte e quattro le seguenti condi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4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loro continuità elettrica sia realizzata, per costruzione o mediante adatte connessioni, in modo che sia assicurata la protezione contro i danneggiamenti meccanici, chimici ed elettrochim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4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loro conduttanza sia almeno uguale a quella risultante dall'appl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4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n possano venire rimosse se non previsti, in caso di rimozione, prowedimenti sostitu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84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ano state appositamente previste per uso come conduttori di protezione o, se necessario, siano state rese idonee a tale u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4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Nota: l'uso delle tubazioni metalliche dell'acqua è consentito a condizione che si ottenga l'autorizzazione di chi è responsabile dell'impianto idraulico. I tubi contenenti gas non devono essere usati come conduttori di protez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masse estranee non devono essere usate come conduttori 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84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62660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Affidabilità della continuità elettrica</a:t>
            </a:r>
            <a:br>
              <a:rPr sz="3200"/>
            </a:b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dei conduttori di protezione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4000"/>
          </a:bodyPr>
          <a:p>
            <a:pPr marL="322200" indent="-322200" algn="just">
              <a:lnSpc>
                <a:spcPct val="9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conduttori di protezione devono essere adeguatamente protetti contro il danneggiamento meccanico e chimico e contro le sollecitazioni elettrodinam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connessioni dei conduttori di protezione devono essere accessibili per ispezioni e per prove, ad eccezione delle giunzioni di tipo miscelato o incapsul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ui conduttori di protezione non devono essere inseriti apparecchi di interruzione, ma possono esserlo dispositivi apribili mediante attrezzo ai fini delle pro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si usano dispositivi di controllo della continuità della messa a terra, i loro avvolgimenti non devono venire inseriti nei conduttori di prote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masse dei componenti non devono costituire tratti del conduttore di protezione di altri componenti, a meno che non siano verificate le condizioni indicate nella slide di pagina 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7626240" cy="117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ff"/>
                </a:solidFill>
                <a:latin typeface="Times New Roman"/>
              </a:rPr>
              <a:t>Conduttori di protezione usati congiuntamente con </a:t>
            </a:r>
            <a:br>
              <a:rPr sz="2800"/>
            </a:br>
            <a:r>
              <a:rPr b="0" i="1" lang="it-IT" sz="2800" spc="-1" strike="noStrike">
                <a:solidFill>
                  <a:srgbClr val="0000ff"/>
                </a:solidFill>
                <a:latin typeface="Times New Roman"/>
              </a:rPr>
              <a:t>dispositivi di protezione contro le sovracorrenti</a:t>
            </a:r>
            <a:br>
              <a:rPr sz="2800"/>
            </a:b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Quando i dispositivi di protezione contro le sovracorrenti sono usati per la protezione contro i contatti indiretti, si raccomanda vivamente di incorporare il conduttore di protezione nella stessa conduttura dei conduttori attivi o di disposto nelle sue immediate vicinan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Esempio di collegamento di un impianto a ter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02" name="38" descr="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GRADIENTI DI POTENZI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626240" cy="117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GRADIENTI DI POTENZI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05" name="39a" descr=""/>
          <p:cNvPicPr/>
          <p:nvPr/>
        </p:nvPicPr>
        <p:blipFill>
          <a:blip r:embed="rId1"/>
          <a:stretch/>
        </p:blipFill>
        <p:spPr>
          <a:xfrm>
            <a:off x="0" y="914400"/>
            <a:ext cx="4343400" cy="2604960"/>
          </a:xfrm>
          <a:prstGeom prst="rect">
            <a:avLst/>
          </a:prstGeom>
          <a:ln w="0">
            <a:noFill/>
          </a:ln>
        </p:spPr>
      </p:pic>
      <p:pic>
        <p:nvPicPr>
          <p:cNvPr id="206" name="39b" descr=""/>
          <p:cNvPicPr/>
          <p:nvPr/>
        </p:nvPicPr>
        <p:blipFill>
          <a:blip r:embed="rId2"/>
          <a:stretch/>
        </p:blipFill>
        <p:spPr>
          <a:xfrm>
            <a:off x="4267080" y="1066680"/>
            <a:ext cx="4876920" cy="2389320"/>
          </a:xfrm>
          <a:prstGeom prst="rect">
            <a:avLst/>
          </a:prstGeom>
          <a:ln w="0">
            <a:noFill/>
          </a:ln>
        </p:spPr>
      </p:pic>
      <p:pic>
        <p:nvPicPr>
          <p:cNvPr id="207" name="39c" descr=""/>
          <p:cNvPicPr/>
          <p:nvPr/>
        </p:nvPicPr>
        <p:blipFill>
          <a:blip r:embed="rId3"/>
          <a:stretch/>
        </p:blipFill>
        <p:spPr>
          <a:xfrm>
            <a:off x="2209680" y="3581280"/>
            <a:ext cx="487692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GRADIENTI DI POTENZI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209" name="40a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130640" cy="5019480"/>
          </a:xfrm>
          <a:prstGeom prst="rect">
            <a:avLst/>
          </a:prstGeom>
          <a:ln w="0">
            <a:noFill/>
          </a:ln>
        </p:spPr>
      </p:pic>
      <p:pic>
        <p:nvPicPr>
          <p:cNvPr id="210" name="40b" descr=""/>
          <p:cNvPicPr/>
          <p:nvPr/>
        </p:nvPicPr>
        <p:blipFill>
          <a:blip r:embed="rId2"/>
          <a:stretch/>
        </p:blipFill>
        <p:spPr>
          <a:xfrm>
            <a:off x="4876920" y="1219320"/>
            <a:ext cx="374328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Classificazione dei sistemi in categorie secondo la loro tensione nominal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7000"/>
          </a:bodyPr>
          <a:p>
            <a:pPr marL="332640" indent="-332640" algn="just">
              <a:lnSpc>
                <a:spcPct val="98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relazione alla loro tensione nominale i sistemi elettrici si dividono 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8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stemi di categoria O (zero), quelli a tensione nominale minore o uguale a 50 V se a corrente alternata o a 120 V se a corrente continua (non ondul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8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stemi di I categoria, quelli a tensione nominale da oltre 50 fino a 1000 V compreso se a corrente alternata o da oltre 120 fino a 1500 V compreso se a corrente contin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8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stemi di II categoria, quelli a tensione nominale oltre lOOOV se a corrente alternata o oltre 1500V se a corrente continua, fino a 30.000V compres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lnSpc>
                <a:spcPct val="98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stemi di III categoria, quelli a tensione nominale maggiore di 30.000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Classificazione dei sistemi in categorie secondo la loro tensione nominale (segu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339480" indent="-339480" algn="just">
              <a:lnSpc>
                <a:spcPct val="148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alora la tensione nominale verso terra sia superiore alla tensione nominale fra le fasi, agli effetti della classificazione del sistema si considera la tensione nominale verso terra; inoltre i sistemi di categoria collegati direttamente a terra devono presentare una tensione verso terra non superiore a 600V se a corrente alternata a 900V se a corrente continua. La tensione effettiva può variare entro le abituali tolleranze. I transitori non vengono considerati. Questa classificazione non esclude l'introduzione nelle diverse categorie di limiti intermedi per ragioni particolar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istemi a bassissima tensione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139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stemi a bassissima tensione di sicurezza (SELV - PEL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9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Dutch801SWC"/>
              </a:rPr>
              <a:t>‑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stema di categoria O che risponde a particolari requisiti aventi per fine la sicurezza delle persone contro i contatti diretti e indiret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9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stema a bassissima tensione funzionale (FEL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39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Dutch801SWC"/>
              </a:rPr>
              <a:t>‑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stema di categoria O che non risponde a tutti i requisiti che caratterizzano i sistemi a bassissima tensione di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9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ta: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Vedi norma CEI 64/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Tipi di sistemi di distribu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14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sistemi di distribuzione sono definiti in fun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4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 loro sistema di conduttori a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4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 loro modo di collegamento a ter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stemi di conduttori attivi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rente alternat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rrente continu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nofase,  2 condutt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 condutt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onofase,  3 condutt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 conduttor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ifase,      3 condutt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ifase,      4 condutto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44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Modi di collegamento in terr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5000"/>
          </a:bodyPr>
          <a:p>
            <a:pPr marL="325800" indent="-325800">
              <a:lnSpc>
                <a:spcPct val="9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ima letter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situazione del sistema di alimentazione verso terra: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collegamento diretto a terra di un punto, in c.a. in genere il neutro 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= isolamento da terra, oppure collegamento a terra di un punto, in c.a. in genere il neutro, tramite un'impedenz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econda letter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situazione delle masse dell'impianto elettrico rispetto a terra: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masse collegate direttamente a terra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masse collegate al punto messa a terra del sistema di aliment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ventuali lettere successive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: disposizione dei conduttori di neutro e di protezione: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funzioni di neutro e di protezione svolte da conduttori separati</a:t>
            </a:r>
            <a:br>
              <a:rPr sz="20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funzioni di neutro e di protezione svolte da un unico conduttore (conduttore PE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istema TN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13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'anello di guasto è costituito esclusivamente da elementi metallici (vedi figura cui I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corrente di gua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666880"/>
            <a:ext cx="6629400" cy="3505320"/>
          </a:xfrm>
          <a:custGeom>
            <a:avLst/>
            <a:gdLst/>
            <a:ahLst/>
            <a:rect l="l" t="t" r="r" b="b"/>
            <a:pathLst>
              <a:path w="3360" h="1824">
                <a:moveTo>
                  <a:pt x="0" y="0"/>
                </a:moveTo>
                <a:lnTo>
                  <a:pt x="3120" y="0"/>
                </a:lnTo>
                <a:lnTo>
                  <a:pt x="3120" y="1344"/>
                </a:lnTo>
                <a:lnTo>
                  <a:pt x="3360" y="1584"/>
                </a:lnTo>
                <a:lnTo>
                  <a:pt x="3360" y="1824"/>
                </a:lnTo>
                <a:lnTo>
                  <a:pt x="2304" y="1824"/>
                </a:lnTo>
                <a:lnTo>
                  <a:pt x="2304" y="864"/>
                </a:lnTo>
                <a:lnTo>
                  <a:pt x="0" y="864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28195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71600" y="32767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373392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41148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28195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1066680" y="5562720"/>
            <a:ext cx="533520" cy="152280"/>
            <a:chOff x="1066680" y="5562720"/>
            <a:chExt cx="533520" cy="152280"/>
          </a:xfrm>
        </p:grpSpPr>
        <p:sp>
          <p:nvSpPr>
            <p:cNvPr id="62" name=""/>
            <p:cNvSpPr/>
            <p:nvPr/>
          </p:nvSpPr>
          <p:spPr>
            <a:xfrm>
              <a:off x="1066680" y="556272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560" rIns="885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43000" y="56386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560" rIns="885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19320" y="571500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560" rIns="885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295280" y="2743200"/>
            <a:ext cx="152640" cy="1522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95280" y="3200400"/>
            <a:ext cx="152640" cy="1522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3657600"/>
            <a:ext cx="152640" cy="1522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2743200"/>
            <a:ext cx="685800" cy="1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3200400"/>
            <a:ext cx="685800" cy="1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3657600"/>
            <a:ext cx="685800" cy="1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43600" y="41148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3600" y="4952880"/>
            <a:ext cx="20574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2819520"/>
            <a:ext cx="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4114800"/>
            <a:ext cx="0" cy="12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77120" y="5334120"/>
            <a:ext cx="68580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062920" y="4816440"/>
            <a:ext cx="8002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038480"/>
            <a:ext cx="152280" cy="15264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876920"/>
            <a:ext cx="152640" cy="1522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67280" y="4038480"/>
            <a:ext cx="152640" cy="15264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238880" y="5334120"/>
            <a:ext cx="304920" cy="6094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51400" y="2057400"/>
            <a:ext cx="338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7040" y="4054320"/>
            <a:ext cx="3067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76160" y="4206960"/>
            <a:ext cx="943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(TN-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33680" y="4130640"/>
            <a:ext cx="338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20800" y="4435560"/>
            <a:ext cx="4759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3760" y="5257800"/>
            <a:ext cx="4042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520" y="4267080"/>
            <a:ext cx="362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377480" y="4282920"/>
            <a:ext cx="74556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N-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63640" y="3749760"/>
            <a:ext cx="6602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44280" y="2454120"/>
            <a:ext cx="408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56880" y="2971800"/>
            <a:ext cx="408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156880" y="3352680"/>
            <a:ext cx="408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5334120"/>
            <a:ext cx="381024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4648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4572000"/>
            <a:ext cx="45720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istema TT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13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'anello di guasto comprende generalmente la terra su una parte del suo percorso. (vedi figura in cui I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= corrente di gua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2743200"/>
            <a:ext cx="4724280" cy="3200400"/>
          </a:xfrm>
          <a:custGeom>
            <a:avLst/>
            <a:gdLst/>
            <a:ahLst/>
            <a:rect l="l" t="t" r="r" b="b"/>
            <a:pathLst>
              <a:path w="2976" h="2016">
                <a:moveTo>
                  <a:pt x="0" y="2016"/>
                </a:moveTo>
                <a:lnTo>
                  <a:pt x="2064" y="2016"/>
                </a:lnTo>
                <a:lnTo>
                  <a:pt x="2064" y="1776"/>
                </a:lnTo>
                <a:lnTo>
                  <a:pt x="1968" y="1680"/>
                </a:lnTo>
                <a:lnTo>
                  <a:pt x="1968" y="1392"/>
                </a:lnTo>
                <a:lnTo>
                  <a:pt x="2976" y="1392"/>
                </a:lnTo>
                <a:lnTo>
                  <a:pt x="2976" y="1152"/>
                </a:lnTo>
                <a:lnTo>
                  <a:pt x="2880" y="1056"/>
                </a:lnTo>
                <a:lnTo>
                  <a:pt x="2880" y="0"/>
                </a:lnTo>
                <a:lnTo>
                  <a:pt x="96" y="0"/>
                </a:lnTo>
                <a:lnTo>
                  <a:pt x="96" y="1632"/>
                </a:lnTo>
                <a:lnTo>
                  <a:pt x="0" y="1680"/>
                </a:lnTo>
                <a:lnTo>
                  <a:pt x="0" y="2016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9718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32767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358128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38862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2895480"/>
            <a:ext cx="685800" cy="1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71600" y="3200400"/>
            <a:ext cx="685800" cy="1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1600" y="3505320"/>
            <a:ext cx="685800" cy="1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297180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57600" y="4343400"/>
            <a:ext cx="19810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38862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9718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81480" y="4419720"/>
            <a:ext cx="152640" cy="380880"/>
          </a:xfrm>
          <a:prstGeom prst="lightningBol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3809880"/>
            <a:ext cx="152280" cy="15264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2895480"/>
            <a:ext cx="152640" cy="15264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2819520"/>
            <a:ext cx="152640" cy="1522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200400"/>
            <a:ext cx="152640" cy="1522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3505320"/>
            <a:ext cx="152640" cy="1522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572000"/>
            <a:ext cx="152280" cy="1522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876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14400" y="5715000"/>
            <a:ext cx="533520" cy="152280"/>
            <a:chOff x="914400" y="5715000"/>
            <a:chExt cx="533520" cy="152280"/>
          </a:xfrm>
        </p:grpSpPr>
        <p:sp>
          <p:nvSpPr>
            <p:cNvPr id="119" name=""/>
            <p:cNvSpPr/>
            <p:nvPr/>
          </p:nvSpPr>
          <p:spPr>
            <a:xfrm>
              <a:off x="914400" y="571500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560" rIns="885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90720" y="57909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560" rIns="885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67040" y="586728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560" rIns="885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505320" y="5715000"/>
            <a:ext cx="533160" cy="152280"/>
            <a:chOff x="3505320" y="5715000"/>
            <a:chExt cx="533160" cy="152280"/>
          </a:xfrm>
        </p:grpSpPr>
        <p:sp>
          <p:nvSpPr>
            <p:cNvPr id="123" name=""/>
            <p:cNvSpPr/>
            <p:nvPr/>
          </p:nvSpPr>
          <p:spPr>
            <a:xfrm>
              <a:off x="3505320" y="5715000"/>
              <a:ext cx="533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560" rIns="885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581280" y="57909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560" rIns="885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657600" y="5867280"/>
              <a:ext cx="22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560" rIns="885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65000" y="2209680"/>
            <a:ext cx="338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52120" y="2514600"/>
            <a:ext cx="408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252120" y="2846520"/>
            <a:ext cx="408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52120" y="3200400"/>
            <a:ext cx="408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35200" y="3521160"/>
            <a:ext cx="3628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76360" y="4282920"/>
            <a:ext cx="4042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5742000"/>
            <a:ext cx="338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0000" y="5349960"/>
            <a:ext cx="446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7920" y="5361120"/>
            <a:ext cx="4543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H="1">
            <a:off x="3123720" y="487692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600" y="5943600"/>
            <a:ext cx="342900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200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istema I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114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corrente (I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) dovuta ad un primo guasto è di valore limitato, perchè si riduce attraverso le capacità verso terra dell'impianto ed eventualmente anche attraverso, l'impedenza inserita tra un punto (di solito il neutro) del sistema di alimentazione e la ter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3352680"/>
            <a:ext cx="4191120" cy="2895840"/>
          </a:xfrm>
          <a:custGeom>
            <a:avLst/>
            <a:gdLst/>
            <a:ahLst/>
            <a:rect l="l" t="t" r="r" b="b"/>
            <a:pathLst>
              <a:path w="2640" h="1824">
                <a:moveTo>
                  <a:pt x="0" y="0"/>
                </a:moveTo>
                <a:lnTo>
                  <a:pt x="2640" y="0"/>
                </a:lnTo>
                <a:lnTo>
                  <a:pt x="2640" y="1824"/>
                </a:lnTo>
                <a:lnTo>
                  <a:pt x="1104" y="1824"/>
                </a:lnTo>
                <a:lnTo>
                  <a:pt x="1104" y="1680"/>
                </a:lnTo>
                <a:lnTo>
                  <a:pt x="1200" y="1584"/>
                </a:lnTo>
                <a:lnTo>
                  <a:pt x="1200" y="1200"/>
                </a:lnTo>
                <a:lnTo>
                  <a:pt x="1248" y="1152"/>
                </a:lnTo>
                <a:lnTo>
                  <a:pt x="1152" y="1152"/>
                </a:lnTo>
                <a:lnTo>
                  <a:pt x="1200" y="1008"/>
                </a:lnTo>
                <a:lnTo>
                  <a:pt x="1200" y="624"/>
                </a:lnTo>
                <a:lnTo>
                  <a:pt x="0" y="624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95280" y="3124080"/>
            <a:ext cx="5441400" cy="1295280"/>
            <a:chOff x="1295280" y="3124080"/>
            <a:chExt cx="5441400" cy="1295280"/>
          </a:xfrm>
        </p:grpSpPr>
        <p:sp>
          <p:nvSpPr>
            <p:cNvPr id="142" name=""/>
            <p:cNvSpPr/>
            <p:nvPr/>
          </p:nvSpPr>
          <p:spPr>
            <a:xfrm>
              <a:off x="1295280" y="320040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560" rIns="885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350496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560" rIns="885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3809880"/>
              <a:ext cx="502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8560" rIns="8856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3124080"/>
              <a:ext cx="685800" cy="1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23880" y="3429000"/>
              <a:ext cx="685800" cy="1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23880" y="3733560"/>
              <a:ext cx="685800" cy="1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8080" y="3227400"/>
              <a:ext cx="40860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>
                <a:lnSpc>
                  <a:spcPct val="162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it-IT" sz="2000" spc="-1" strike="noStrike" baseline="-1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28080" y="3608280"/>
              <a:ext cx="408600" cy="58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>
                <a:lnSpc>
                  <a:spcPct val="162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it-IT" sz="2000" spc="-1" strike="noStrike" baseline="-10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77120" y="3836880"/>
              <a:ext cx="17784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920" rIns="88920" tIns="44280" bIns="44280" anchor="t">
              <a:spAutoFit/>
            </a:bodyPr>
            <a:p>
              <a:pPr>
                <a:lnSpc>
                  <a:spcPct val="162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328080" y="2895480"/>
            <a:ext cx="4086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124080"/>
            <a:ext cx="152280" cy="15264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3429000"/>
            <a:ext cx="152280" cy="152280"/>
          </a:xfrm>
          <a:prstGeom prst="flowChartConnector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276720"/>
            <a:ext cx="152280" cy="152280"/>
          </a:xfrm>
          <a:prstGeom prst="diamond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3581280"/>
            <a:ext cx="152280" cy="152640"/>
          </a:xfrm>
          <a:prstGeom prst="diamond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657600"/>
            <a:ext cx="358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124080" y="38098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9880" y="33526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4800600"/>
            <a:ext cx="457200" cy="15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3733920"/>
            <a:ext cx="152280" cy="152280"/>
          </a:xfrm>
          <a:prstGeom prst="diamond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33920" y="3276720"/>
            <a:ext cx="152280" cy="152280"/>
          </a:xfrm>
          <a:prstGeom prst="diamond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3657600"/>
            <a:ext cx="0" cy="2590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20040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380988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3505320"/>
            <a:ext cx="0" cy="243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733920"/>
            <a:ext cx="152280" cy="152280"/>
          </a:xfrm>
          <a:prstGeom prst="diamond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3429000"/>
            <a:ext cx="152640" cy="152280"/>
          </a:xfrm>
          <a:prstGeom prst="diamond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3124080"/>
            <a:ext cx="152640" cy="152640"/>
          </a:xfrm>
          <a:prstGeom prst="diamond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4724280"/>
            <a:ext cx="152388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4800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95680" y="48006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242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48006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48006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48006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7242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1800" y="5029200"/>
            <a:ext cx="304920" cy="1219320"/>
          </a:xfrm>
          <a:custGeom>
            <a:avLst/>
            <a:gdLst/>
            <a:ahLst/>
            <a:rect l="l" t="t" r="r" b="b"/>
            <a:pathLst>
              <a:path w="192" h="768">
                <a:moveTo>
                  <a:pt x="48" y="0"/>
                </a:moveTo>
                <a:lnTo>
                  <a:pt x="0" y="48"/>
                </a:lnTo>
                <a:lnTo>
                  <a:pt x="96" y="48"/>
                </a:lnTo>
                <a:lnTo>
                  <a:pt x="192" y="48"/>
                </a:lnTo>
                <a:lnTo>
                  <a:pt x="48" y="192"/>
                </a:lnTo>
                <a:lnTo>
                  <a:pt x="48" y="768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971800" y="5257800"/>
            <a:ext cx="152280" cy="152280"/>
          </a:xfrm>
          <a:prstGeom prst="diamond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71800" y="6172200"/>
            <a:ext cx="152280" cy="152280"/>
          </a:xfrm>
          <a:prstGeom prst="diamond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12560" y="4343400"/>
            <a:ext cx="338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6960" y="6095880"/>
            <a:ext cx="33840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87440" y="4282920"/>
            <a:ext cx="40428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5080" y="4191120"/>
            <a:ext cx="422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4560" y="4191120"/>
            <a:ext cx="422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90360" y="4191120"/>
            <a:ext cx="422280" cy="5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62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it-IT" sz="2000" spc="-1" strike="noStrike" baseline="-10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7T17:47:50Z</dcterms:created>
  <dc:creator>Paolo SGRECCIA</dc:creator>
  <dc:description/>
  <dc:language>en-US</dc:language>
  <cp:lastModifiedBy>ELIS</cp:lastModifiedBy>
  <dcterms:modified xsi:type="dcterms:W3CDTF">1998-02-09T15:14:10Z</dcterms:modified>
  <cp:revision>85</cp:revision>
  <dc:subject/>
  <dc:title>Nessun titolo diapositiva</dc:title>
</cp:coreProperties>
</file>