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16040" indent="-27144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101600" indent="-218880">
              <a:spcBef>
                <a:spcPts val="774"/>
              </a:spcBef>
              <a:buClr>
                <a:srgbClr val="ff0000"/>
              </a:buClr>
              <a:buFont typeface="Book Antiqua"/>
              <a:buChar char="»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218880">
              <a:spcBef>
                <a:spcPts val="774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984320" indent="-22068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200" y="6491160"/>
            <a:ext cx="91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ruolo di progettisti, fabbricanti,installatori, appaltatori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Il ruolo dei progettisti, dei fabbricanti, degli installatori e degli appaltatori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292800" y="4349880"/>
            <a:ext cx="2616120" cy="1206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tratto d’appalto o contratto d’opera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5080" y="4349880"/>
            <a:ext cx="2197080" cy="1206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7360" y="2292480"/>
            <a:ext cx="1973160" cy="1282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4680" y="4349880"/>
            <a:ext cx="2845080" cy="1206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3520" y="2216160"/>
            <a:ext cx="2566800" cy="13590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44680" y="2292480"/>
            <a:ext cx="2463840" cy="12826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10680" y="1555920"/>
            <a:ext cx="4837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fidamento di lavori all’interno dell’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30440" y="2546280"/>
            <a:ext cx="213048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ca l’idoneità   tecnico - professionale dell’appaltat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03960" y="2241720"/>
            <a:ext cx="22287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Fornisce informazioni dettagliate sui rischi specifici e sulle misure di prevenzione ed emer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4480" y="4527720"/>
            <a:ext cx="266364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 gli interventi di prevenzione per eliminare i rischi di interfer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02240" y="4451400"/>
            <a:ext cx="2359080" cy="8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Coopera all’attuazione delle misure di preven-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2440" y="2470320"/>
            <a:ext cx="20700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l contratto di appalto o d’opera il commit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3680" y="4603680"/>
            <a:ext cx="2298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ll’esecuzione dell’opera complessiva il delegato I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69360" y="3863880"/>
            <a:ext cx="311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16040" y="2673360"/>
            <a:ext cx="492120" cy="67320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2360" y="4654440"/>
            <a:ext cx="492120" cy="59688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8760" y="3511440"/>
            <a:ext cx="1739880" cy="90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tratto d’appalto o contratto d’opera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dividuare il delegato ITL preposto a seguire i lavori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finire le possibili interferenze con lavorazioni ITL o di altre impres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elezionare imprese qualificate con esperienza e capacità di operare in sicurezz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Fornire all’impresa le informazioni generali sui rischi specifici e sulle misure di prevenzione ed emergenza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00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cquisire dal fornitore la documentazione di propria pertinenza (dichiarazione di responsabilità/ sopralluogo preventivo, ecc.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290520" y="2317680"/>
            <a:ext cx="2755800" cy="8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servizi tecnici o generali, aree tecniche, ingegneri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4320" y="3765600"/>
            <a:ext cx="117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39840" y="3282840"/>
            <a:ext cx="1739880" cy="1359000"/>
          </a:xfrm>
          <a:prstGeom prst="rightArrow">
            <a:avLst>
              <a:gd name="adj1" fmla="val 50000"/>
              <a:gd name="adj2" fmla="val 64019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5080" y="3206880"/>
            <a:ext cx="1587240" cy="9777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76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tratto d’appalto o contratto d’opera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74560" y="1372680"/>
            <a:ext cx="5489640" cy="4179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9000"/>
          </a:bodyPr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Prendere visione del piano di sicurezza della impresa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Effettuare il sopralluogo preventivo con il responsabile di cantiere, verbalizzare ed eventualmente integrare le informazioni generali sui rischi specifici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Individuare chiaramente le zone e le condizioni operative dell’impresa e i limiti del cantier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Comunicare per iscritto il programma dei lavori ai responsabili delle aree interessat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Coordinare gli interventi, quando vi siano diverse imprese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In caso di dubbi sulle norme di sicurezza e protezione ambientale chiedere il supporto di MESI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Controllare che l’impresa si attenga a quanto concordato, e in particolare a fine lavori, pretendere documentazione relativa a collaudi e controlli, rimozione di attrezzature e residui asportati, pulizia dell’area e ripristino della sicurezza dei luoghi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  <a:p>
            <a:pPr marL="293760" indent="-293760" algn="just">
              <a:spcBef>
                <a:spcPts val="3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Book Antiqua"/>
              </a:rPr>
              <a:t>Far riscontrare le inadempienze rilevate al responsabile di cantiere e in situazioni di rischio grave avvisare il responsabile affinchè sospenda i lavori</a:t>
            </a:r>
            <a:endParaRPr b="0" lang="en-US" sz="15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60840" y="2546280"/>
            <a:ext cx="2001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GATO I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4320" y="3537000"/>
            <a:ext cx="1179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7560" y="3206880"/>
            <a:ext cx="1054080" cy="977760"/>
          </a:xfrm>
          <a:prstGeom prst="rightArrow">
            <a:avLst>
              <a:gd name="adj1" fmla="val 50000"/>
              <a:gd name="adj2" fmla="val 53907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35080" y="3054240"/>
            <a:ext cx="2120760" cy="90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tratto d’appalto o contratto d’opera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23920" y="1523520"/>
            <a:ext cx="389412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ssegnare lavoratori o concedere in uso, macchine, parti di macchine, attrezzature, utensili, apparecchi, mezzi vari di protezione personale ed opere provvisionali (la procedura aziendale lo consente solo in casi eccezionali e previa verifica)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gerirsi dando ordini ai dipendenti dell’impresa bypassando il responsabile di cantie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gnorare situazioni di rischio grave ritenendo che “non sono fatti nostri”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538560" y="2317680"/>
            <a:ext cx="1693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elegato IT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3680" y="3308400"/>
            <a:ext cx="184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sa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non 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21080" y="2901960"/>
            <a:ext cx="2197080" cy="1206360"/>
          </a:xfrm>
          <a:prstGeom prst="rightArrow">
            <a:avLst>
              <a:gd name="adj1" fmla="val 50000"/>
              <a:gd name="adj2" fmla="val 910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7600" y="3045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 Progettis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 algn="just">
              <a:spcBef>
                <a:spcPts val="60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progettisti dei luoghi o posti di lavoro e degli impianti devono rispettare i principi generali di prevenzione al momento delle scelte progettuali e tecnich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971880" y="4386240"/>
          <a:ext cx="144144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71880" y="4386240"/>
                    <a:ext cx="14414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7360" y="3054240"/>
            <a:ext cx="1739880" cy="11304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i Progettis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liminazione e/o riduzione dei rischi in fase di progettazio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spetto dei principi ergonomic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pplicazione della normativa in materia di sicurezz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"/>
          <p:cNvSpPr/>
          <p:nvPr/>
        </p:nvSpPr>
        <p:spPr>
          <a:xfrm>
            <a:off x="594000" y="3460680"/>
            <a:ext cx="131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chied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68440" y="2825640"/>
            <a:ext cx="2044800" cy="1511280"/>
          </a:xfrm>
          <a:prstGeom prst="rightArrow">
            <a:avLst>
              <a:gd name="adj1" fmla="val 50000"/>
              <a:gd name="adj2" fmla="val 67657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 fabbrican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 fabbricanti devono costruire macchine, attrezzature ed apparecchi conformi ai requisiti essenziali di sicurezza ed indicare nelle istruzioni per l’uso tutti gli eventuali rischi residui che dovranno essere gestiti dall’utilizzator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905120" y="3962520"/>
          <a:ext cx="1295280" cy="109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1295280" cy="10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119480" y="3913200"/>
          <a:ext cx="129060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9480" y="3913200"/>
                    <a:ext cx="12906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005520" y="4141800"/>
          <a:ext cx="1465200" cy="7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05520" y="4141800"/>
                    <a:ext cx="1465200" cy="7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11040" y="3282840"/>
            <a:ext cx="2425680" cy="82548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i Fabbrican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a dichiarazione di conformità ai requisiti essenziali di sicurezza delle direttive UE applicabil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e istruzioni per l’uso corredate di tutte le indicazioni necessarie per l’uso in sicurezza comprese le istruzioni per l’installazio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439560" y="3460680"/>
            <a:ext cx="2124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ichiedere sem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01960" y="3130560"/>
            <a:ext cx="1739880" cy="1054080"/>
          </a:xfrm>
          <a:prstGeom prst="rightArrow">
            <a:avLst>
              <a:gd name="adj1" fmla="val 50000"/>
              <a:gd name="adj2" fmla="val 82538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760" y="2978280"/>
            <a:ext cx="2425680" cy="120636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n i Fabbrican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3123720"/>
            <a:ext cx="4114800" cy="2514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he le istruzioni per l’uso della macchina, attrezzatura ed apparecchio, concordato in fase di acquisto, siano sufficient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"/>
          <p:cNvSpPr/>
          <p:nvPr/>
        </p:nvSpPr>
        <p:spPr>
          <a:xfrm>
            <a:off x="286560" y="3384720"/>
            <a:ext cx="205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erificare semp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9680" y="2978280"/>
            <a:ext cx="1815840" cy="1434960"/>
          </a:xfrm>
          <a:prstGeom prst="rightArrow">
            <a:avLst>
              <a:gd name="adj1" fmla="val 50000"/>
              <a:gd name="adj2" fmla="val 63277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l marchio CE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067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’attribuzione del marchio è una procedura, attraverso la quale, si assicura l’utilizzatore che nella progettazione di una macchina, attrezzatura ed apparecchio sono stati analizzati tutti i pericoli presentati, ed adottate le conseguenti misure di sicurezz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067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067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l marchio CE riguarderà, a regime, la quasi totalità dei prodotti e trasferisce all’utilizzatore solo il rischio residuo non eliminat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067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067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sistere con i fabbricanti per la fornitura di prodotti marcati C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067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siderare il marchio come un fondamentale requisito di selezione del fornitor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5480" y="27144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li installator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Gli installatori e i montatori di impianti, macchine o altri mezzi tecnici devono attenersi alle norme di sicurezza e di igiene del lavoro, nonchè alle istruzioni fornite dai rispettivi fabbricanti dei macchinari per la parte di loro competenz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895560" y="4081320"/>
          <a:ext cx="1441440" cy="74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5560" y="4081320"/>
                    <a:ext cx="14414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gli installator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8760" y="4349880"/>
            <a:ext cx="1892160" cy="90144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8760" y="2139840"/>
            <a:ext cx="1892160" cy="9781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876560" y="167652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1356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rispetto delle norme di sicurezza nell’esecuzione del lavoro come: indossare i DPI necessari, operare in sicurezza, ecc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1356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struzioni per il trasporto, l’assemblaggio, l’installazione e la regolazione che devono essere contenute nelle istru-zioni per l’uso consegnate dal fabbrican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"/>
          <p:cNvSpPr/>
          <p:nvPr/>
        </p:nvSpPr>
        <p:spPr>
          <a:xfrm>
            <a:off x="286920" y="2470320"/>
            <a:ext cx="1772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a richied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0240" y="4603680"/>
            <a:ext cx="1449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a forn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68440" y="2063880"/>
            <a:ext cx="2197080" cy="1206360"/>
          </a:xfrm>
          <a:prstGeom prst="rightArrow">
            <a:avLst>
              <a:gd name="adj1" fmla="val 50000"/>
              <a:gd name="adj2" fmla="val 91070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68440" y="4197240"/>
            <a:ext cx="2273400" cy="1130400"/>
          </a:xfrm>
          <a:prstGeom prst="rightArrow">
            <a:avLst>
              <a:gd name="adj1" fmla="val 50000"/>
              <a:gd name="adj2" fmla="val 100566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30T13:20:32Z</dcterms:created>
  <dc:creator>Responsabile</dc:creator>
  <dc:description/>
  <dc:language>en-US</dc:language>
  <cp:lastModifiedBy>ELIS</cp:lastModifiedBy>
  <cp:lastPrinted>1995-12-13T09:25:42Z</cp:lastPrinted>
  <dcterms:modified xsi:type="dcterms:W3CDTF">1998-01-22T17:53:12Z</dcterms:modified>
  <cp:revision>23</cp:revision>
  <dc:subject/>
  <dc:title>Il ruolo dei progettisti, dei fabbricanti, degli installatori e degli appaltatori</dc:title>
</cp:coreProperties>
</file>