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13.jpeg" ContentType="image/jpeg"/>
  <Override PartName="/ppt/media/image4.wmf" ContentType="image/x-wmf"/>
  <Override PartName="/ppt/media/image10.png" ContentType="image/png"/>
  <Override PartName="/ppt/media/image5.wmf" ContentType="image/x-wmf"/>
  <Override PartName="/ppt/media/image7.jpeg" ContentType="image/jpeg"/>
  <Override PartName="/ppt/media/image12.jpeg" ContentType="image/jpeg"/>
  <Override PartName="/ppt/media/image6.wmf" ContentType="image/x-wmf"/>
  <Override PartName="/ppt/media/image8.png" ContentType="image/png"/>
  <Override PartName="/ppt/media/image11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2160" y="1676520"/>
            <a:ext cx="762624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2160" y="3830760"/>
            <a:ext cx="762624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2160" y="1676520"/>
            <a:ext cx="372132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9960" y="1676520"/>
            <a:ext cx="372132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2160" y="3830760"/>
            <a:ext cx="372132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99960" y="3830760"/>
            <a:ext cx="372132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2160" y="1676520"/>
            <a:ext cx="245556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840" y="1676520"/>
            <a:ext cx="245556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49520" y="1676520"/>
            <a:ext cx="245556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2160" y="3830760"/>
            <a:ext cx="245556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840" y="3830760"/>
            <a:ext cx="245556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49520" y="3830760"/>
            <a:ext cx="245556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2160" y="1676520"/>
            <a:ext cx="7626240" cy="41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2160" y="1676520"/>
            <a:ext cx="7626240" cy="412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2160" y="1676520"/>
            <a:ext cx="3721320" cy="412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99960" y="1676520"/>
            <a:ext cx="3721320" cy="412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2160" y="271440"/>
            <a:ext cx="7626240" cy="54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2160" y="1676520"/>
            <a:ext cx="372132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9960" y="1676520"/>
            <a:ext cx="3721320" cy="412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2160" y="3830760"/>
            <a:ext cx="372132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2160" y="1676520"/>
            <a:ext cx="3721320" cy="412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9960" y="1676520"/>
            <a:ext cx="372132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99960" y="3830760"/>
            <a:ext cx="372132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2160" y="1676520"/>
            <a:ext cx="372132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9960" y="1676520"/>
            <a:ext cx="372132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2160" y="3830760"/>
            <a:ext cx="762624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Click to edit the title text format</a:t>
            </a: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2160" y="1676520"/>
            <a:ext cx="7626240" cy="412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365880" y="6316560"/>
            <a:ext cx="2554200" cy="43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europa" descr=""/>
          <p:cNvPicPr/>
          <p:nvPr/>
        </p:nvPicPr>
        <p:blipFill>
          <a:blip r:embed="rId2"/>
          <a:stretch/>
        </p:blipFill>
        <p:spPr>
          <a:xfrm>
            <a:off x="7543800" y="228600"/>
            <a:ext cx="1247760" cy="83988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2745000" y="6496200"/>
            <a:ext cx="567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ortamento umano -- Programma LEONAR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Il comportamento umano in caso di emergenza</a:t>
            </a: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l panico ed il suo control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l piano di emergen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’evacu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218960" y="1981080"/>
            <a:ext cx="7729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gnalazioni e comunicazioni (sistemi di trasmissioni e di allarm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cuazione (piano e procedure defini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tivazione pubbliche autorità (enti e numeri telefonici, persona incarica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ifica (addestramento, esercitazione, controlli periodic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visione (adeguamenti in caso di innovazioni tecnologiche ed organizzativ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228600"/>
            <a:ext cx="77342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Piano di emergenza - Fasi di stes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7734240" cy="97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La conoscenza dell’ambiente di lavoro</a:t>
            </a: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729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ndividuare caratteristiche spaziali e distributive dell’edificio (numero piani, numero locali, numero scale e ascensori con l’impiego di planimetrie aggiorna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ndicazione sulle planimetrie dei luoghi in cui si possono verificare situazioni di perico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trutture e impianti di sicurezza (scale e uscite verso l’esterno, luoghi sicuri, estintori, idranti ecc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nformazioni sul numero degli occupati e la loro tipolog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7734240" cy="97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Eventi che potrebbero richiedere l’evacuazione</a:t>
            </a: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729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AUSE INTER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en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plosi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AUSE ESTER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en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rremo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l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quin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00240" y="304920"/>
            <a:ext cx="7734240" cy="97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Operazioni da compiere</a:t>
            </a: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729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ffissione ai piani di planimetrie con l’indicazione dei locali, dei percorsi da seguire, delle scale d’emergenza, della distribuzione degli idranti e degli estinto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ffissione in  ogni locale della planimetria di piano con indicato il percorso per raggiungere l’uscita di emergenza assegnata e delle istruzioni di sicurez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iminazione di ostacoli che possono intralciare l’eso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ribuzione lampade portatili da alcuni operato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ollo segnaletica di sicurezza per una rapida individu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ividuazione aree esterne come punti di raccolta segnala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00240" y="304920"/>
            <a:ext cx="7734240" cy="97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Predisposizione e incarichi</a:t>
            </a: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729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signazione nominativ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ide l’ordine di evacu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 come diffonde l’ordine di evacu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olla le operazioni di evacuazi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lefona al 115, 113, 112 o 1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rompe l’erogazione dell’energia elettrica, gas e il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zionamento delle centrali termi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olla l’efficienza dei sistemi antincen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ifica la praticabilità del sistema d’eso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218960" y="1981080"/>
            <a:ext cx="7729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ogni locale con presenza contemporanea di più lavoratori o di pubblico, occorre affidare le seguenti mansioni ai lavorator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 il compito di aprire le porte e guidare i lavoratori e il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blico verso la zona di raccol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ce per ultimo chiudendo la porta dopo aver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ollato che nessuno sia rimasto dent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i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iuta i disabili a raggiungere il punto di raccol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egnazione degli incaric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title"/>
          </p:nvPr>
        </p:nvSpPr>
        <p:spPr>
          <a:xfrm>
            <a:off x="1200240" y="304920"/>
            <a:ext cx="7734240" cy="97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Predisposizione e incarichi</a:t>
            </a: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34240" cy="97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Esempio di chiamata di soccorso</a:t>
            </a: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3520" y="1295280"/>
            <a:ext cx="8153280" cy="40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 effettuare una chiamata di soccorso è indispensabile conoscere i numeri telefonici dei vari organismi preposti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lo alcuni numeri sono validi in tutta Italia, altri cambiano a seconda del luogo per cui è importante avere anche questi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’efficacia di una chiamata di soccorso dipende soprattutto dalle informazioni che questa contiene e che possono permettere ai soccorritori di intervenire nel modo più idoneo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 seguito le cose fondamentali da comunicare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Descrizione del tipo di incident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Entità dell’incident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Via, numero civico, città, località, indicazioni sul percorso da seguire per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raggiungere il luogo dell’incident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Presenza di feriti e num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914400" y="1447920"/>
          <a:ext cx="7315200" cy="1739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447920"/>
                    <a:ext cx="7315200" cy="173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533520" y="3733920"/>
          <a:ext cx="7924680" cy="14256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3733920"/>
                    <a:ext cx="7924680" cy="14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457200" y="304920"/>
            <a:ext cx="703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SCHEMA DA TENERE IN EVIDEN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00240" y="304920"/>
            <a:ext cx="7734240" cy="97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I lavoratori dovranno:</a:t>
            </a: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729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rompere la attività lavor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tenere la cal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lasciare il recupero oggetti person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guire le procedure di sicurez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7734240" cy="97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Datore di lavoro o responsabile delegato dovranno vigilare sulla corretta attuazione:</a:t>
            </a: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729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ontrollo giornaliero della praticabilità delle vie d’esodo da effettuare prima dell’inizio delle attività lavor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Eliminazione dei materiali infiammabili in locali non consenti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Divieto di sosta per gli autoveicoli che creino impedimenti nelle vie d’esodo verso l’este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Addestramento periodico all’uso corretto di estintori ed altre attrezzature antincen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Funzionalità e manutenzione dei dispositivi di allarme, mezzi antincendio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Registro di verifica della sicurezza antincen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00240" y="304920"/>
            <a:ext cx="7734240" cy="97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Stimoli da incendio</a:t>
            </a: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729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ndenza all’evacuazione da solo o con alt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ndenza all’operazione di estinzione o al contenimento dell’incen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ndenza a dare l’allar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7734240" cy="97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Responsabili di settore dovranno:</a:t>
            </a: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729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are adeguatamente il personale dipendente sull’osservanza delle procedure previste dal piano di emergen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venire immediatamente nelle situazioni che dovessero determinare condizioni di pan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ollare in caso di emergenza che ciascun dipendente svolga correttamente il compito affida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rtare con se il registro delle assenze per la verifica del personale nel punto di raccol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unicare al coordinatore dell’evacuazione eventuali dispersi o feri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7734240" cy="97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Scheda attrezzatura di emergenza</a:t>
            </a: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384200" y="1981080"/>
          <a:ext cx="7061400" cy="472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4200" y="1981080"/>
                    <a:ext cx="706140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76680" y="228240"/>
            <a:ext cx="7734600" cy="97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D.P.R. 8/6/82 n.524: Segnaletica di sicurezza</a:t>
            </a: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91" name="99a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1828800" cy="1938240"/>
          </a:xfrm>
          <a:prstGeom prst="rect">
            <a:avLst/>
          </a:prstGeom>
          <a:ln w="0">
            <a:noFill/>
          </a:ln>
        </p:spPr>
      </p:pic>
      <p:pic>
        <p:nvPicPr>
          <p:cNvPr id="92" name="exit" descr=""/>
          <p:cNvPicPr/>
          <p:nvPr/>
        </p:nvPicPr>
        <p:blipFill>
          <a:blip r:embed="rId2"/>
          <a:stretch/>
        </p:blipFill>
        <p:spPr>
          <a:xfrm>
            <a:off x="1752480" y="4495680"/>
            <a:ext cx="1590840" cy="1590840"/>
          </a:xfrm>
          <a:prstGeom prst="rect">
            <a:avLst/>
          </a:prstGeom>
          <a:ln w="0">
            <a:noFill/>
          </a:ln>
        </p:spPr>
      </p:pic>
      <p:pic>
        <p:nvPicPr>
          <p:cNvPr id="93" name="mexit" descr=""/>
          <p:cNvPicPr/>
          <p:nvPr/>
        </p:nvPicPr>
        <p:blipFill>
          <a:blip r:embed="rId3"/>
          <a:stretch/>
        </p:blipFill>
        <p:spPr>
          <a:xfrm>
            <a:off x="5410080" y="4495680"/>
            <a:ext cx="1600200" cy="1575000"/>
          </a:xfrm>
          <a:prstGeom prst="rect">
            <a:avLst/>
          </a:prstGeom>
          <a:ln w="0">
            <a:noFill/>
          </a:ln>
        </p:spPr>
      </p:pic>
      <p:pic>
        <p:nvPicPr>
          <p:cNvPr id="94" name="idra" descr=""/>
          <p:cNvPicPr/>
          <p:nvPr/>
        </p:nvPicPr>
        <p:blipFill>
          <a:blip r:embed="rId4"/>
          <a:stretch/>
        </p:blipFill>
        <p:spPr>
          <a:xfrm>
            <a:off x="6019920" y="1828800"/>
            <a:ext cx="1873080" cy="190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34240" cy="97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Esempi di procedure: operatore VV.F. aziendale in servizio presso la centrale di controllo e nel centralino telefonico dell’attività</a:t>
            </a:r>
            <a:endParaRPr b="0" i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729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ocedura ALLAR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ia i VV.F. aziendali con radiotelefono (ore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nota l’orario di allarme (ore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attiva la chiamata automatica dei VV.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erta il responsabile della sicurezza con radiotelefono o cerca-persone (ore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ia i volontari di piano (ore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218960" y="1981080"/>
            <a:ext cx="7729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ASO A - Falso allar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visa il responsabile della sicurezza del falso allarme (ore .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nota il nominativo e la funzione della persona che gli ha comunicato il cessato allar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ASO B - I VV.F. AZ trovano l’incen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iama i vigili del fuoco (ore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a il responsabile della sicurezza (ore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ia i componenti della squadra antincendio (ore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a il Direttore dell’attivit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0" y="380520"/>
            <a:ext cx="7734240" cy="97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Esempi di procedure: operatore VV.F. aziendale in servizio presso la centrale di controllo e nel centralino telefonico dell’attività</a:t>
            </a:r>
            <a:endParaRPr b="0" i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218960" y="1981080"/>
            <a:ext cx="7729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CENDIO SP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iama nuovamente i Vigili del Fuoco e li informa che l’incendio è spento (ore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a tramite gli altoparlanti di piano gli occupanti del piano stesso e li invita a dirigersi con calma verso le uscite (ore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a il Direttore dell’attività (ore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0" y="380520"/>
            <a:ext cx="7734240" cy="97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Esempi di procedure: operatore VV.F. aziendale in servizio presso la centrale di controllo e nel centralino telefonico dell’attività</a:t>
            </a:r>
            <a:endParaRPr b="0" i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218960" y="1981080"/>
            <a:ext cx="7729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ASO C - I VV.F. AZ trovano l’incen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iama i Vigili del Fuoco (ore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a il Responsabile della Sicurezza (ore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ia i componenti della squadra antincendio (ore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a il Direttore dell’attivit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0" y="380520"/>
            <a:ext cx="7734240" cy="97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Esempi di procedure: operatore VV.F. aziendale in servizio presso la centrale di controllo e nel centralino telefonico dell’attività</a:t>
            </a:r>
            <a:endParaRPr b="0" i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7734240" cy="97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Esempi di procedure: operatore VV.F. aziendale in servizio presso la centrale di controllo e nel centralino telefonico dell’attività</a:t>
            </a:r>
            <a:endParaRPr b="0" i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729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CENDIO NON SP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a tramite gli altoparlanti di piano gli occupanti del piano stesso e li invita a dirigersi con calma verso le uscite (ore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iama l'idraulico di servizio (ore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iama l’elettricista di servizio (ore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iama le guardie giurate (ore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iama l’addetto alla centrale termica (ore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iama l’ascensorista (ore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tende l’arrivo dei VV.F. (ore..) ai quali consegna i disegni del fabbricato, da le necessarie spiegazioni e li accompagna nel luogo del sinistr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34240" cy="97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Esempi pratici: Procedure di intervento</a:t>
            </a: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729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rmare gli impianti o gli apparecchi di ventilazione e condizionamento: si toglie in tal modo un notevole apporto d’aria atta ad alimentare l’incendio e si impedisce l’immissione dei gas e vapori infiammabili e tossici provocati dalla combustione in locali non raggiunti dalle fiam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105%20copia" descr=""/>
          <p:cNvPicPr/>
          <p:nvPr/>
        </p:nvPicPr>
        <p:blipFill>
          <a:blip r:embed="rId1"/>
          <a:stretch/>
        </p:blipFill>
        <p:spPr>
          <a:xfrm>
            <a:off x="3733920" y="3886200"/>
            <a:ext cx="1877760" cy="203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218960" y="1981080"/>
            <a:ext cx="7729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ntanare dalla zona della combustione i materiali combustibili: in tal modo si potrà circoscrivere l’incendio o per lo meno ritardare la sua propagazio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0" y="380520"/>
            <a:ext cx="7734240" cy="97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Esempi pratici: Procedure di intervento</a:t>
            </a: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10" name="106%20copia" descr=""/>
          <p:cNvPicPr/>
          <p:nvPr/>
        </p:nvPicPr>
        <p:blipFill>
          <a:blip r:embed="rId1"/>
          <a:stretch/>
        </p:blipFill>
        <p:spPr>
          <a:xfrm>
            <a:off x="3657600" y="3505320"/>
            <a:ext cx="2023920" cy="204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00240" y="304920"/>
            <a:ext cx="7734240" cy="97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Situazioni</a:t>
            </a: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729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allarme: Situazione di pericolo che si ritiene di poter dominare utilizzando i mezzi esistenti sul pos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arme: Situazione di pericolo che si ritiene di poter dominare con l’aiuto dei servizi speciali predisposti dall’azienda. (Squadra di emergenz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mergenza: Situazione di pericolo che per essere dominata necessita dell’aiuto di forze esterne. (VV.FF CR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218960" y="1981080"/>
            <a:ext cx="7729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zionare gli eventuali impianti fissi di spegnimento previa evacuazione degli ambienti occupati da person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0" y="304920"/>
            <a:ext cx="7734240" cy="97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Esempi pratici: Procedure di intervento</a:t>
            </a: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13" name="107%20copia" descr=""/>
          <p:cNvPicPr/>
          <p:nvPr/>
        </p:nvPicPr>
        <p:blipFill>
          <a:blip r:embed="rId1"/>
          <a:stretch/>
        </p:blipFill>
        <p:spPr>
          <a:xfrm>
            <a:off x="3657600" y="3505320"/>
            <a:ext cx="2011320" cy="199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00240" y="304920"/>
            <a:ext cx="7734240" cy="97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Che cos’è il panico ?</a:t>
            </a: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729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E’ la sensazione acuta che sta succedendo qualcosa di spaventoso da cui possiamo essere gravemente danneggiati; esso provoca:</a:t>
            </a:r>
            <a:br>
              <a:rPr sz="2000"/>
            </a:b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66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ccelerazione del battito cardia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66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umento o caduta della pressione arterio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66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Tremore alle gam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66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Difficoltà di respir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66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Giramento della testa e vertigi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5715000"/>
            <a:ext cx="78739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este reazioni del nostro organismo possono paralizzare l’interessato o, al contrario farlo fuggire disordinatamente e senza me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34240" cy="97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Evento Incendio - Effetti sull’uomo</a:t>
            </a: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0" y="1143000"/>
          <a:ext cx="9144000" cy="5410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43000"/>
                    <a:ext cx="914400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34240" cy="97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Aspetti psicologici nell’emergenza</a:t>
            </a: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657440" y="1295280"/>
          <a:ext cx="6114960" cy="492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7440" y="1295280"/>
                    <a:ext cx="6114960" cy="49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7734240" cy="97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Esempio di messaggio in situazione di emergenza</a:t>
            </a: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729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luire con la massima calma verso le scale di sicurez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endere con calma le scale aiutando eventualmente chi fosse stato colpito da pa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n attardarsi a recuperare gli oggetti person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n rientrare nei propri uffici ma prendere l’uscita più vic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ndersi cura accompagnando eventuali colleghi handicappati, invalidi - gesta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ntanarsi dal palazz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n usare le auto potrebbero intralciare i mezzi di soccor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00240" y="304920"/>
            <a:ext cx="7734240" cy="97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Piano di emergenza</a:t>
            </a: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729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BIETTIV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durre i pericoli alle pers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tare soccorso alle pers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ircoscrivere e contenere l’ev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ARATTERISTICH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cis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iarezza e concis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essibilit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cretez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visione e aggiorn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7734240" cy="97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Piano di emergenza - Fasi di stesura</a:t>
            </a: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729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inizione procedure operative (preallarme, allarme, emergenz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icazione centro di controllo ed aree operative (centri di coordinamento ed informazione, zone attrezza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ividuazione responsabili gestione (gerarchia e definizione dei livelli decisional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stituzione squadre di intervento (personale interno qualificato ed individua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quipaggiamento di emergenza (dispositivi di protezione individuale, mezzi di salvataggi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mo soccorso sanitario (locale sanitario, cassetta di pronto soccors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16T11:46:16Z</dcterms:created>
  <dc:creator>Marco Nicchi</dc:creator>
  <dc:description/>
  <dc:language>en-US</dc:language>
  <cp:lastModifiedBy>ELIS</cp:lastModifiedBy>
  <cp:lastPrinted>1996-07-19T17:00:00Z</cp:lastPrinted>
  <dcterms:modified xsi:type="dcterms:W3CDTF">1998-01-23T18:17:34Z</dcterms:modified>
  <cp:revision>71</cp:revision>
  <dc:subject/>
  <dc:title>Il comportamento umano in caso di emergenza</dc:title>
</cp:coreProperties>
</file>