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447920" y="6478560"/>
            <a:ext cx="7603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valutazione dei rischi -- Programma LEON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591320" y="200160"/>
            <a:ext cx="1324080" cy="88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La valutazione dei risch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RISCHIO DI NATURA INFORTUNI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Aree di transito                                         - Reti e apparecch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 Spazi di lavoro                                               distribuzione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 Scale                                                         - Apparecchi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 Macchine                                                        sollev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 Attrezzi manuali                                       - Mezzi di trasp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 Manipolazione manuale                           - Rischi di incendio 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 oggetti                                                      esplo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 Immagazzinamento di                              - Rischi per la pres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oggetti                                                           di esplos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 Impianti elettrici                                       - Rischi chim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- Apparecchi a pre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INDIVIDUAZIONE DEI RISCHI NELL’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AMBIENTE DI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259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CHIO DI NATURA IGIENICO AMBIE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i chim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i biologi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enti fis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RISCHIO DI NATURA IGIENICO AMBIENT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osizione ad agenti chimici             - Microclima ter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sposizione ad agenti cancerogeni      - Esposizione a radi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nizz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sposizione ad agenti biologici           - Esposizione a radiaz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 ionizza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Ventilazione industriale                       - Illumin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limatizzazione ambienti                    - Carico di lavoro f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lavoro                                               - Carico di lavoro m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sposizione a rumore                          - Lavoro ai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sposizione a vibrazioni                        termi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INDIVIDUAZIONE DEI RISCHI NELL’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AMBIENTE DI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CHIO “TRASVERSALE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spetti organizzativi ed gestional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zazione del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psicolog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ttori ergonom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izioni di lavoro diffici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SPETTI ORGANIZZATIVI E GESTIONALI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(rischio trasversale</a:t>
            </a:r>
            <a:r>
              <a:rPr b="1" i="1" lang="en-US" sz="2800" spc="-1" strike="noStrike">
                <a:solidFill>
                  <a:srgbClr val="0000ff"/>
                </a:solidFill>
                <a:latin typeface="Book Antiqu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zzazione del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ti, funzioni e responsabil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si, pianificazione e cont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ecip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e e procedimenti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utenzione e collau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ositivi di protezione individ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za, pronto socco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rveglianza sanit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MODALITA’ PER L’IDENTIFICAZIONE DEI PERIC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ase 1: acquisire, raccogliere e censire la documentazione; cioè verificare che le macchine, gli impianti, i processi di lavoro, e gli agenti per i quali la normativa prevede procedure particolari (di progettazione, di collaudo, di verifica, ecc.) risultino in rego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ase 2: valutare che quanto censito attraverso la raccolta della documentazione risponda alle norme generali ed a quelle specifiche di set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ase 3: identificare i potenziali pericoli inerenti il contesto di rischio in es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4800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MODALITA’ PER L’IDENTIFICAZIONE DEI PERIC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identificazione dei potenziali pericoli di cui al punto precedente viene generalmente sviluppata attraverso opportuni strumenti-indagini quali per esemp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iste di controllo (check-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rifica di conformità alle n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erifica di conformità ai criteri di buona ingegn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petto delle norme generali di cautela (Art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formazioni da impianti vicini (es. cantie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ecniche e metodologie sistematiche (Hozap, FMEA, ecc.) ove neces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54100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RISCH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960" y="1357200"/>
            <a:ext cx="8718840" cy="37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Il rischio può essere ricondotto al prodotto di due grandez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babilistiche: F = frequenza (n° incidenti/an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 = magnitudo (n° morti/an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 = FxM &gt; 0    R = risch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a = rischio accett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c = rischio calcol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c &gt; Ra           m.pro: misura preventiva atta a ridur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 a mitigare l’entità del dan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.pre: misura preventiva atta a imped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’insorgenza dell’incidente st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8240" y="5715000"/>
            <a:ext cx="4407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914400" y="2431800"/>
            <a:ext cx="0" cy="328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6840" y="24242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43400" y="5624640"/>
            <a:ext cx="452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50920" y="-374400"/>
            <a:ext cx="7149960" cy="593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84440" y="311040"/>
            <a:ext cx="6082920" cy="4711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75960" y="22716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85440" y="23479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8960" y="426708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42735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960" y="4024440"/>
            <a:ext cx="902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.p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98760" y="4633920"/>
            <a:ext cx="885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.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7440" y="5853240"/>
            <a:ext cx="8632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’obiettivo generale è di abbattere la curva del rischio al disotto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schio accettab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RISCH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valutazione dei rischi viene effetuata in relazione alla tipologia dei pericoli identificati utilizzando metodologie di analisi che consentano di stimare la probabilità di accadimento (F) e le conseguenze associate ai pericoli (M). Su tale base viene poi identificata la necessità r l’urgenza di adottare eventuali provvedimenti atti a rimuovere e/o attenuare i risch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livello di rischio associato ai pericoli-situazioni identificate può essere valutato in modo qualitativo, quantitativo o semiquantit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e slide successive viene riportata una tipologia di valutazione di tipo semiquantita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76320" y="2610000"/>
          <a:ext cx="8991360" cy="30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610000"/>
                    <a:ext cx="899136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342360" y="320760"/>
            <a:ext cx="6634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La stima della probabilità dell’ accadi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880" y="1463760"/>
            <a:ext cx="744624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 criterio pra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l livello di sorpresa che l’evento provochereb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600" y="5624640"/>
            <a:ext cx="9083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applicazione della scala fare riferimento alla realazione tra car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contrata e danno ipotizz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7950240" cy="63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valutazione del rischio è lo strumento fondamentale 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mette di individuare le misure di prevenzione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ianificarne l’attuazione, il miglioramento ed il controllo al     fine di verificarne l’efficacia e l’efficie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valutazione dei rischi non può essere effetuata in astratto, ma deve tradursi in un documento conten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) una relazione sulla valutazione dei rischi per la sicurezza e la salute durante il lavoro, nella quale sono specificati i criteri adottati per la valutazione stess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b) l’individuazione delle misure di prevenzione e protezione e dei dispositivi di protezione individuale, conseguente alla valutazione di cui alla lettera 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) il programma delle misure ritenute opportune per garantire    nel tempo il miglioramento dei livelli di sicurezza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Art. 4, 2° comma-d.lgs.626/9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74120" y="276120"/>
            <a:ext cx="56052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La stima della gravità del dan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2610000"/>
          <a:ext cx="9067680" cy="28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10000"/>
                    <a:ext cx="9067680" cy="28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003040" y="1539720"/>
            <a:ext cx="47840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 criterio pra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versibilità o meno del dan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-45720" y="5472000"/>
            <a:ext cx="9083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ella applicazione della scala fare riferimento alla realazione tra car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contrata e danno ipotizz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PRIORITA’ DI INTERV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ltiplicando tra loro il valore della probabilità di accadimento e della gravità del danno si ottiene u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ce di priorità arbitrari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ile da 1 a 16 che aiuta soltanto ad identificare la necessità e l’urgenza di adottare eventuali provvedimenti atti a rimuovere e/o attenuare i risch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3049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Esempio di matrice di valutazione del risch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41148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&gt; 8 Azioni correttive indilazion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&lt; R 8 Azioni correttive da programmare con urg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&lt; R &lt;3 Azioni correttive da programmare a breve-medio ter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1 Azioni correttive da programmare con minore urg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37960" y="1895400"/>
          <a:ext cx="8372520" cy="203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1895400"/>
                    <a:ext cx="837252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CONCLUS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120" y="2006640"/>
            <a:ext cx="2235240" cy="1549440"/>
          </a:xfrm>
          <a:prstGeom prst="rect">
            <a:avLst/>
          </a:prstGeom>
          <a:noFill/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54560" y="2006640"/>
            <a:ext cx="2234880" cy="1549440"/>
          </a:xfrm>
          <a:prstGeom prst="rect">
            <a:avLst/>
          </a:prstGeom>
          <a:noFill/>
          <a:ln w="507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02320" y="2006640"/>
            <a:ext cx="2235240" cy="154944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30120" y="5054760"/>
            <a:ext cx="2235240" cy="1168200"/>
          </a:xfrm>
          <a:prstGeom prst="rect">
            <a:avLst/>
          </a:prstGeom>
          <a:noFill/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54560" y="5054760"/>
            <a:ext cx="2234880" cy="1168200"/>
          </a:xfrm>
          <a:prstGeom prst="rect">
            <a:avLst/>
          </a:prstGeom>
          <a:noFill/>
          <a:ln w="507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02320" y="5054760"/>
            <a:ext cx="2235240" cy="1168200"/>
          </a:xfrm>
          <a:prstGeom prst="rect">
            <a:avLst/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rot="16200000">
            <a:off x="901800" y="4102200"/>
            <a:ext cx="1015920" cy="482400"/>
          </a:xfrm>
          <a:prstGeom prst="rightArrow">
            <a:avLst>
              <a:gd name="adj1" fmla="val 50000"/>
              <a:gd name="adj2" fmla="val 105308"/>
            </a:avLst>
          </a:prstGeom>
          <a:noFill/>
          <a:ln w="507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rot="16200000">
            <a:off x="4025880" y="4102200"/>
            <a:ext cx="1015920" cy="482400"/>
          </a:xfrm>
          <a:prstGeom prst="rightArrow">
            <a:avLst>
              <a:gd name="adj1" fmla="val 50000"/>
              <a:gd name="adj2" fmla="val 105308"/>
            </a:avLst>
          </a:prstGeom>
          <a:noFill/>
          <a:ln w="507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rot="16200000">
            <a:off x="7148880" y="4101840"/>
            <a:ext cx="1015920" cy="482760"/>
          </a:xfrm>
          <a:prstGeom prst="rightArrow">
            <a:avLst>
              <a:gd name="adj1" fmla="val 50000"/>
              <a:gd name="adj2" fmla="val 105229"/>
            </a:avLst>
          </a:prstGeom>
          <a:noFill/>
          <a:ln w="507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9160" y="2013120"/>
            <a:ext cx="24202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ssenza/trascurabi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l rischio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spos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1800" y="4984920"/>
            <a:ext cx="22021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 vi è motivo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venire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tenimento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vello di atten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85520" y="1936800"/>
            <a:ext cx="21794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za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osizioni entro 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i previsti dal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86600" y="4984920"/>
            <a:ext cx="20818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sione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i periodic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a ambientali c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nit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57320" y="2013120"/>
            <a:ext cx="23576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za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osizione nei lim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 comun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armante per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lute dei lavora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80280" y="4984920"/>
            <a:ext cx="24811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dozione delle mi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 prevenzione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tezione di cui all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rt. 3 D.Lgs. 626/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DEFINIZ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ERICOLO: proprietà o qualità intrinseca di una entità avente il potenziale di causare dan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ISCHIO: probabilità che sia raggiunto il livello potenziale di danno nelle condizioni di impiego e/o di esposizione, nonchè dimensioni possibili del danno stes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ALUTAZIONE DEL RISCHIO: procedimento di valutazione dei rischiper la sicurezza e la sanità dei lavoratori, nell’espletamento delle loro mansioni, derivanti dalle circostanza del verificarsi di un pericolo sul luogo di lavo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DEFINIZION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LUTE: lo stato di salute è definito dall’Organizzazione Mondiale della Sanità in base al benessere fisico, psichico e soci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NNO: la perdita di qualsiasi elemento che contribuisca alla conservazione delle sal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ZIONE: il complesso delle disposizioni o misure adottate o previste in tutte le fasi dell’attività lavorativa per evitare o diminuire i rischi professionali nel rispetto della salute della popolazione e dell’integrità dell’ambiente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65534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GLI OBIETTIVI DELLA VALUTAZIONE DEL RISCH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izzare con metodo e sistematicamente l’attività lavorativa ed i perico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re le misure necessarie alla salvaguardia della salute e sicurez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isure tecn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isure di manut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isure procedu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isure 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isure sanit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Misure ergonom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anificare l’attività in modo che si svolga nelle migliori condizioni di sicurezza e di sa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HI EFFETUA LA VALUTAZIONE DEI RISC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’ un obbligo indelegabile del datore di lavoro che può e deve avvalersi d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rvizio di protezione e pre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Rappresentante dei lavoratori per la sicur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edico comp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vor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FASI DELLA VALUTAZIONE DEL RISCHIO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76276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1) Suddivisione dell’unità organizzativa in ambienti di lavo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2) Scelta dell’ambiente di lavo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3) Compilazione dati generali (n° addetti, lay-out impianti, n° macchine, denuncia impianti, lavorazioni pericolose, ecc.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4) Analisi storica e attività di sud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5) Identificazione dei lavoratori espos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6)Identificazione dei perico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FASI DELLA VALUTAZIONE DEL RISCHIO 2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7) Identificazione dei risch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8) Stima/misura delle esposizio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9) Stima degli effetti che ne possono deriv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10) Verifica delle misure di prevenzione e protezione già in a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11) Identificazione di eventuali nuove misure di prevenzione e protezi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12) Programma attuativo delle mi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INDIVIDUAZIONE DEI RISCHI NELL’</a:t>
            </a:r>
            <a:br>
              <a:rPr sz="2800"/>
            </a:b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AMBIENTE DI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CHIO DI NATURA INFORTUNIS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t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ianti elettri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endio, esplo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8T07:39:46Z</dcterms:created>
  <dc:creator/>
  <dc:description/>
  <dc:language>en-US</dc:language>
  <cp:lastModifiedBy>ELIS</cp:lastModifiedBy>
  <dcterms:modified xsi:type="dcterms:W3CDTF">1998-01-22T17:52:10Z</dcterms:modified>
  <cp:revision>27</cp:revision>
  <dc:subject/>
  <dc:title>La valutazione dei rischi</dc:title>
</cp:coreProperties>
</file>